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Img"/>
          </p:nvPr>
        </p:nvSpPr>
        <p:spPr>
          <a:xfrm>
            <a:off x="1143000" y="6822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3CD-7BD4-42FD-A6F9-9CC4337676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89D1-417D-4DD2-A85F-D78056C6BAC9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25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7F9D-D66A-4223-8BFF-1EB837E6BD0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2C62-F546-4900-B39E-8ACE51CAA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E88D-2431-4DC1-84AB-C13555461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149F-D46A-4CB7-9640-5C1E680B2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5613-DA1C-44FC-B4C8-F6908F509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841F3-B48F-48C8-AFE1-52014349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691A2-12CB-42F3-BA61-6CBB3975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DA54-5D7C-4C9C-996E-B76FA8F4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7E929-1AC6-495C-BA0A-5B77830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90E8-B8EF-43A4-AE40-38351F95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4EED-D90D-4105-A4CE-397DD798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3BAB-F6C4-46F4-840D-F510CBC1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022A-CFD9-4820-B912-531F28F3D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EF5D4-416B-40C4-80E4-76C9382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D1F2-D0DE-48C9-9B1B-F1EEF423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0671-4DAE-406E-A559-E1C778D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63DE0-989F-4CCF-BF38-2593DA86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ADB6A-75B2-426A-81E7-D792C3B2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69B17-1530-4090-8DD3-34D3BFDE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08B1C-2A14-48C4-AC34-8D47A5E3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5DA71-889B-4AAF-8800-DFD62A8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7D92C-9714-4355-9305-D381BEAF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F91F9-D648-4750-A5E4-91B47E82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4F8A-2C7B-4F87-8982-4513033AFA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B34B4-B8D4-4453-8D31-0A1EBF2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358E5-4704-4079-A384-758AA6F5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3E930-8D96-4B51-923B-EDBE7743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41707-D903-4BF0-9F7A-22AE11EA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8FDC6-9C3B-460A-AE28-47971AEA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F4CCF-D4A1-429B-96E1-45955C0F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626AF-EB6B-4FCF-A6C3-719C6AF4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BDB0D-F386-41C5-A574-FC7727B6B9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28EA2-C351-42D7-89E1-6013C6CB22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F1237-F23C-4C69-9D22-F67A282A5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7042B-78D5-467A-B434-E6F9F1C4CD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27742-0B23-42C3-A96E-98EFB9DFA5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D964E-EBEF-4758-976D-D5B3788749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C098B-ED2E-40CB-8393-9E05773A36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4DB3D-5323-4DEF-80BA-734E60B7EA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22CA6-575A-4D2E-B497-ED5C6DA83B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AC468-832E-44E9-99B2-60C7C70260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3C888E-86DD-4F07-8A7F-D476654F9E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76C779-8074-4620-8756-B8E6CE7ECC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9C729-BCEE-4C6F-991B-426549E8C8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3059-6E79-4CCC-AEBE-E268D3991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C73AA-C5D3-466C-AC1A-5DFFF6CA4F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E71A-F008-4A31-8D84-B15DD423A3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B248-B9C1-4F00-99C9-AC7CE8D7E07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F3DA-206D-45FB-9854-8F005CC308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5D6A1-FC85-4C3C-99B4-7C1CDE4A928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07D6-1C2C-46EA-9DB8-99E290695A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1E49B-5B3E-453C-9CBD-D83A36BC8C7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BBE08-5480-48D4-9B3E-59C80E3419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0146-ED60-4CB8-8953-F0B415CCB1C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0992-FC22-4F83-A300-54FBDD6343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1AE7-BDC9-4DDE-B397-89F9E8E1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AFF0-2612-471E-999F-01D2F9D50E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A4E1B-46D9-408A-BBB2-47D2C014B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FD14-B122-4066-9CD1-F63348A50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C265-95AD-4DCB-A702-4BC01958E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2BA3-7301-49FE-9979-918EBEFEC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C814B72-2B72-4878-A3E4-BE18B709DC6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4CF841-4513-457F-8C7D-B4BEBD9A87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45AE-EE34-4DA8-962E-83DBA927F40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4127-E831-479F-A4FE-F568C99402A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9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CC0E09E-DB5A-48FE-B85D-05E6123FAA4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D0C81F6-8F84-434B-97BF-98F5A27F39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81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2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3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4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5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7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8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9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0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1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2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3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4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196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95400"/>
            <a:ext cx="5581800" cy="666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cid:image004.png@01D7B519.9E61D320"/>
          <p:cNvPicPr/>
          <p:nvPr/>
        </p:nvPicPr>
        <p:blipFill>
          <a:blip r:embed="rId3"/>
          <a:stretch/>
        </p:blipFill>
        <p:spPr>
          <a:xfrm>
            <a:off x="3228840" y="20016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1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D11F5FAA-F8E0-49B3-A3FD-0AEB69B35C01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2C78512-C8D8-4B36-8560-E4025090E2C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8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1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292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304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316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3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1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28.89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12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3.95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9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2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75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388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394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13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17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421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2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4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5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436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39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440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6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447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8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51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2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4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21-10-26T08:08:44Z</dcterms:modified>
  <cp:revision>373</cp:revision>
  <dc:subject/>
  <dc:title>No Slide Title</dc:title>
</cp:coreProperties>
</file>