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22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1FCA-AAE0-46A2-96E1-EE38C8CA92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CF47-2A10-4571-9ACF-5EF5ABE7877C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F8C8-9213-48CB-9E1E-533CA4F0A290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45254-625D-409A-8AC3-A7F718CC6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5E7F1-4C8B-4F78-809F-6491FF64D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4E4B4-D5E4-4936-8041-7C2910EB9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0E8AE-E7C7-4C1D-A3A4-1AEBC29C7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3D388-3D37-4206-AEBF-468D4757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E355A-0792-4A67-894A-B4909CFC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F5229-4439-48D0-B41A-D0FB7F89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ED325-40DF-452E-A718-8E7D63FB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D4AF7-45A0-4A29-9E5D-D24E9ADA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72D22-6991-483A-A7C8-4C298FE3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75FD5-4526-4AA2-9830-2A0A3C9C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CB0FA-169A-4C2C-A51A-AA8D902F6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0114F-BA37-4087-BAE2-85EF0BB4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DC40E-E731-476C-BB49-D317D8F4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0294B-050A-4E4D-A6E2-BFA34EE8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4E305-216B-4A3E-BB0E-F442C5E9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1039B-9909-419F-9A39-CBE1CFF0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C4916-D315-4625-84B1-52E02E7B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78129-47C6-4FCA-8720-BC08B822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6DF18-4E6C-4BBB-B650-687D26F9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5E75F-9645-480A-BAF4-CDC200FD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30700-A4F7-4856-B4A3-A47C899D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B0F61-86B5-452D-AB75-6E9D50501F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30425E-A0F1-4602-BA9E-35F4B14F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29BA0-7BA3-4C9B-A65D-9F49651C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05984-C225-42E5-9278-3A40886F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01D94-054A-44BC-A187-165208DF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238B4-5058-434B-9947-3B63CFBC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C72E2-F4A3-4966-A5BC-8D2AA97B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912CE-317C-4623-8BF2-7C3E6D9B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2740B0-4431-4AEC-8B0D-D97B13C4172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80E4B5-2243-42D6-8310-67CD31322D1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D5C4A1-2381-4F4D-B869-1653D0169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0E93-A98F-4908-ABC3-80A6A22CD6F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7C3190-706A-464E-A124-5ED2530398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46C663-B004-47DC-A6AF-7E5A46094F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725725-E2C0-457C-83A3-0F8ED37488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BD5111-E464-45FE-9CD1-0A42C3D77F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846465-6FC7-43D4-85C4-8EEEAEAF40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72F021-8A68-4F00-99C7-097CBA77F0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B13BAF-98A2-4A22-A5C1-C0065B367D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577FCB-8B03-4BEA-97A6-EF6437C806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3A5C57-5894-4A43-8428-84BE05F44CA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38044-438D-41B0-8AB4-916BB023E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AB89E-731D-4744-9DA7-95AB6E17301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D726C-54E0-40EF-8B2E-3BE3E5BFEB0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B23D7-4D22-434F-AD06-75BB18D54A7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D7DB8-92AB-4E40-8376-87A0A2355DB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408C7-F44B-4B6E-A6C1-BAD9E654DAC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B4F8C-34E0-4963-82AE-7BDAAD98E92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90371-1349-41AD-90F4-CCD6F5E8032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F2C4D-DBDD-40D1-AB80-FAA22CA2BB7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D0D41-FE83-4DE9-96EB-816AA609A58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7AF10-88C0-4660-BD39-C624957CAE9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84E28-F149-4FBE-B78A-F9D985C5C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8A5C9-7978-4E7A-AD41-37EFF29F62E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4A41D-1A1D-4AC3-B04A-CBDAB5221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C8849-93B9-4FEB-B3EC-73F6200EF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85002-FD49-4912-AB25-2E1182E79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F4FED-083C-4711-8607-6A9566CC0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A1785A5-CC6A-45D0-A802-74DB6394442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EBB15EA-772A-4725-BB72-D71C0652C2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C56D-5A01-461E-AB26-B6A4D34ECD6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5A42-D40B-45D7-B022-8AD7088CF75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9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6C802C3-7D36-4ABE-B09E-9B1C18995AF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DAAEB13-4206-4E85-BF8E-D020CA2530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81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196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cid:image004.png@01D7B519.9E61D320"/>
          <p:cNvPicPr/>
          <p:nvPr/>
        </p:nvPicPr>
        <p:blipFill>
          <a:blip r:embed="rId3"/>
          <a:stretch/>
        </p:blipFill>
        <p:spPr>
          <a:xfrm>
            <a:off x="3228840" y="20016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E5D213D4-3979-4C75-917C-78EAEF28D3B0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41DFAC45-93E9-40B3-B019-49525B9F3E65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292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304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316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28.89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12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3.95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9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75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388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13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421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2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36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40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6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51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2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4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21-10-26T08:08:44Z</dcterms:modified>
  <cp:revision>373</cp:revision>
  <dc:subject/>
  <dc:title>No Slide Title</dc:title>
</cp:coreProperties>
</file>