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22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F89F-9556-43DC-BFEF-F38F7C0009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3745-BBFC-4833-8108-969F81CDBCDD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186B-B7F9-494D-96EA-AF0FBD4EC47E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BB6CA-912E-4833-A2A8-5DB2F0092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1A631-B044-40B7-B78D-452CF17D93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AC07C-2330-4FCB-B3BA-F75F38458E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39778-5A91-4C82-9C25-EF62F6990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EF99B-04B3-4A01-8447-8F13C021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44A54-E914-419A-9441-A55689DD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2CAA8-78B7-472E-BC67-0B76F121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D3A53-F318-4ADB-AD0F-90A5EAB6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86127-7CCC-4358-8B1E-56BF1866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02D75-E612-4276-8409-3BAAB736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C732C-80CF-4F21-AE12-077037F9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F8D3C-8A00-472B-BEAA-AF34EB2DC0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976B5-9270-44D7-A02C-D272B8A3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1B4C2-2A52-4D8C-A244-0D441ACB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796F9-CC7F-4E1B-A1CA-9BAB5195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237F1-D0D7-468A-85E2-E50BD6B2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D8B66-6E51-470F-9A9A-E22A6316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46ABE-1D95-499D-9633-5FE6086E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F6016E-164C-4AB7-966F-8EA33B16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6B5AC3-25A7-4A5C-A020-26BC151D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7E96BE-FB31-4510-B53E-B5AD1036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27A264-7778-4A69-978E-A4404A7B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31794-8815-4B21-B21E-143BD54744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E18863-8031-4B37-A665-53514FD4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05D3F-628D-4CB7-AF2A-A60320F1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00753-2ED4-44FE-B99A-138D75A2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49F17-794D-4962-B2F5-DA36B31A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C9792-C0EB-40E3-B695-384AC9E6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E2F23A-3CC7-4E1C-A945-8101A5E0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61E533-CB95-408C-AC5F-570FEB1D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AE7B23-72BF-4FD9-BD86-BCFCC25DAAC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5A157D-8030-4027-B1F7-427E079D0DE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C1C1AB-86A3-41C1-8255-3CFC5CF52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26B1A-8A6B-4A99-8C8C-3DA59CB8A0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438E86-F2F4-497B-959F-C8859DF7A3C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D23DF6-943D-4D8D-A650-CFBFCF017A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839CEF-8BB3-4FCE-A2E8-2DD88062DD9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C1DF49-6B06-44A1-AA4F-EB63AAE15DA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E019FF-070C-4A98-AD82-2F412B81CF9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3FFA44-4F48-46E8-9731-F1C9468F5F0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737E98-FBBF-4EED-AD61-18D052592B4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EDC949-0711-44A0-B459-3D4671F5D71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567E37-2704-4513-9A20-D4755003470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86A2B-F39E-4678-AE0B-0373C9547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CD3AA-9BCC-43B2-9602-B7D88D59CA2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17F8D-4B67-444B-9F98-36A955F5ABC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5FC6A-D830-4A43-8376-B0F83EC50ED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53644-FBE5-467A-9003-259884E07CC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6327F-3C54-4BDE-BF2A-5831C9A7C54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C97E3-1B24-472F-B45C-4B3B52D562F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395EE-2E2E-41C5-877D-49AB46BADE4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57CC9-E6F2-4930-8D80-9DF31E25FF0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6D93E-87C4-4BC9-975A-4BDC66E9973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81DED-44BD-41FB-882D-A2AE49654F7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A8C08-1269-4E4F-8CC4-8D309B42F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6FD2C-16A1-4A4D-B6A9-F0E9926D2E0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3E569-8A2C-4013-A090-47BF1748B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A6AA1-E8E8-4075-A04C-76F4AB729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17526-3521-46AF-B875-876D984144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771C3-44F0-441D-8300-9BA1058AB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8A2C7D3-D25F-4680-ACE3-BEB7B8992A1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F7AA637-C088-43C7-BA0A-40FFC71DDE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B56C-0478-494C-90E4-80A119D91DC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28E4-1D2C-4D6E-BFF6-A83B36FFD72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9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0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30F602C-BA2C-4D5D-AE4F-F9E30B370EC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0F6F1F6-8544-4698-9AC9-056A45C34B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81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2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3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4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5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7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8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9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0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1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2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3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4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5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196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3" descr="cid:image004.png@01D7B519.9E61D320"/>
          <p:cNvPicPr/>
          <p:nvPr/>
        </p:nvPicPr>
        <p:blipFill>
          <a:blip r:embed="rId3"/>
          <a:stretch/>
        </p:blipFill>
        <p:spPr>
          <a:xfrm>
            <a:off x="3228840" y="20016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1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BD88AA15-9772-47DF-9C46-5C9CE8914FEF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1E135FBA-946E-4767-B3C8-A9A18C23883E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8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109440" y="4565520"/>
            <a:ext cx="9039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If group variances differ but normal distributions in group use Welch’s df adjustm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https://statisticsbyjim.com/anova/welchs-anova-compared-to-classic-one-way-anova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See also Delacre, M., Lakens, D., &amp; Leys, C. (2017)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Why Psychologists Should by Default Use Welch’s t-test Instead of Student’s t-test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70c0"/>
                </a:solidFill>
                <a:latin typeface="Verdana"/>
              </a:rPr>
              <a:t>International Review of Social Psychology</a:t>
            </a: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, 30(1), 92–101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1" name="Picture 8" descr=""/>
          <p:cNvPicPr/>
          <p:nvPr/>
        </p:nvPicPr>
        <p:blipFill>
          <a:blip r:embed="rId1"/>
          <a:stretch/>
        </p:blipFill>
        <p:spPr>
          <a:xfrm>
            <a:off x="507960" y="1995480"/>
            <a:ext cx="8604360" cy="2548080"/>
          </a:xfrm>
          <a:prstGeom prst="rect">
            <a:avLst/>
          </a:prstGeom>
          <a:ln w="0">
            <a:noFill/>
          </a:ln>
        </p:spPr>
      </p:pic>
      <p:sp>
        <p:nvSpPr>
          <p:cNvPr id="292" name="Oval 9"/>
          <p:cNvSpPr/>
          <p:nvPr/>
        </p:nvSpPr>
        <p:spPr>
          <a:xfrm>
            <a:off x="7521480" y="245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Line 10"/>
          <p:cNvSpPr/>
          <p:nvPr/>
        </p:nvSpPr>
        <p:spPr>
          <a:xfrm flipV="1">
            <a:off x="6800760" y="3217680"/>
            <a:ext cx="144144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6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304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316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3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1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28.89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12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3.95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9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2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5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1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2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75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388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9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394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5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13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17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20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421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2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4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36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40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5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6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447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8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51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6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89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2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4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6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01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4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21-10-26T08:08:44Z</dcterms:modified>
  <cp:revision>373</cp:revision>
  <dc:subject/>
  <dc:title>No Slide Title</dc:title>
</cp:coreProperties>
</file>