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257B-649C-4E93-9E5E-D8AD811F4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110A-0624-4805-8F13-30BD5E6F2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0D7A-5075-4E4C-BFF9-25D2E6A0B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98D8-3BEA-4A54-B29B-883095D60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43E98-91BE-48BF-9B1D-8360FD074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E6469-C516-4CD1-B325-35F62CA806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A00F8-315F-41A4-96F7-E32CB382B7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7AEDF-72E3-4004-A11B-6CEBAE4F9B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AA633-05B5-4A12-9630-1F46087F82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89DD0-1B23-4A51-896C-83DC905FC5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3CE07-BD66-43BE-802B-E574705C9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9FFE-8ADA-446F-8803-4E0215627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2600A-7098-40AD-811C-A77A50FE85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50837-15A1-46B3-8C67-B0FA2ADA81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32A2B-F2A1-4168-813F-375A251C89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5D70D-76C2-4E4D-99FA-2C8498673F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1F2FA-F1CC-4E3B-8267-3AA11898F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0994-EF43-4D59-9300-EFB7BCB5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9FAF-8ED7-45F4-9F82-A09D88213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051A-E4A2-4940-AC63-22BEEBE13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3A3A-6BA8-44E0-B21F-238105A4E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6F10-EBD3-4A68-9A35-EDD5CE3CC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C855-779D-482B-AACC-CBE2D0B4C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8922-93B4-4460-A071-E2AA02670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E8BC44B-318C-45B1-85C8-293A7391301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E9C5618-8C44-4B2C-B2AE-2A0EFE20D04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1CA12BD-544F-4BD9-BD49-00EA13F2A6F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1E0D07F-1470-48A5-BDFC-43856BEA348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4EAD-5CA6-4110-A09B-B4E4D16DA291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4-29T15:26:08Z</dcterms:modified>
  <cp:revision>340</cp:revision>
  <dc:subject/>
  <dc:title>No Slide Title</dc:title>
</cp:coreProperties>
</file>