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2A0FA8-3141-4FEA-9C6E-45CE097BDC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785A9B-AEA2-474D-B4A7-64774748B593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94FA53-C417-4F85-BAA0-9859D766DDD2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58A-D10E-4054-9C5E-D2449670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729D-0039-464A-8BAD-7F60523B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B5749-20FF-4A61-961E-B516B39F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DD0EF-938C-4A72-8B00-C751732C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55AF3-D9A6-4362-BF75-50F079F0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B000C-87E9-4250-9435-2D29549D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2B82A-7820-40E6-BFD8-904E2681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51F6E-9504-44BD-A040-6767A68E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EAB46-031E-446D-9986-E35E0D1D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CCCC0-3777-4B5E-A6F6-61D84E9F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F1072-279C-4662-A23F-454F63F9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C4FB5-E5F7-499B-8D79-1A291905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0E7D-7D4A-4E13-875B-02B7ADCB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CC17B-3F14-4071-B156-1CFE1BD0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37B58-6928-4DC7-87DE-AE7CBE0E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8A2FE-A7A1-4EF9-9625-AF396A95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AD55B-C2AB-4523-9995-85CC43EE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C3C8D-2BE3-499D-89D8-C7A79582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D3B7C-5328-4F53-AA74-7AB56BBB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4B281-2B79-402F-8941-A8024ED1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C40B3-FADB-45BB-8B2E-AAB44D97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161F2-CC33-4BB2-92F2-836090F8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77061-3D88-44E1-8048-8C2F37A5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CFE-1BA1-4858-A51C-E9CC3BB6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553C5-7826-47D9-8413-7CE4DB20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09A17-70C9-48CE-AB1B-B25979FA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150E5-7937-483D-9116-BDBF777A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685DF-E056-45BA-AAEE-38BD454B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11636-A58F-423B-906E-B65962E2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077B1-94BA-4754-9ACB-82C0FFED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26350-12D6-44AA-8660-F2FCAE18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D512C-9DC0-46B9-9BF7-653A89FA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3FBFE-34EF-4593-B0D4-0B746408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CCF32-5E18-4456-B5C3-4D89A972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5E23B-F621-4648-9A39-05102F68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4BC0A-A669-44E5-BD4A-550BEDCC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2310F-A77C-4E12-B95D-F81C1282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41370-9E26-48AC-B8A5-E164045B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DBE3F-14F7-41BB-94BF-51A69DD8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9D196-9D8E-47D8-B70C-23EC9CAC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A93F3-0EC3-4D9F-925C-23B6B1BB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5F706-ED63-40FE-B59A-A678DC4E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9DEFB-0840-43AA-8EC2-8C57E183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AF020-638A-42DB-8496-C7C0136F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2688C-7D0B-4103-9349-7C983DA1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65BE3-5277-4BCC-80BE-A47EC7B9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842D9-AC70-453A-92C4-F671AA06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A56D2-F8D8-4F91-8BC6-EFD26184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C9AB2-7854-42A8-974B-2958EB5C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0C061-C557-4183-9465-8729CCBE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45C69-0ACC-4E7C-ADC0-F34A999B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750D2-2A78-4F8C-AE1E-C3BEA7EF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FCA65-AC42-4121-A2D7-733DA385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B3278-3528-499D-956B-C02ED849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A0357-A40F-4AB7-B4BA-7DCBCDB2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D2AD2-5C8F-4214-A054-6BAA0022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0CE14-AB19-454E-A622-C2A63796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C2DA6-D5A2-48B9-8626-FE9A0705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CB09E-9F64-4EA8-879E-DF866BDF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D746C-1ACB-4BC8-A76A-2DA6F01B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17AF5-8485-47BC-9C79-5B4D0D9D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1C3C1-447A-419F-8BA2-AE5338FC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0E4EE-9D03-408D-A3DB-8D46366A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A0569-4B05-4C3B-88C7-66460D51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C1FC24-9C18-4C0E-9555-CE4202CA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3451D-B8A7-4FD4-8653-7317DC1E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B4DF5-A1B6-4D96-98CB-A8C79CEA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730B51-2FD8-4BF6-A9BD-CACBB35D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959AA-229F-45EE-BD32-0EFA772A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CB118E-E6F9-4881-A9E3-6045B19C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4772C-9B7F-464F-B343-257DBD09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7AA41-3F71-4850-8231-15A4BF21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3C8DB2-2259-43CB-91E5-036F24B7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72191-6E41-4C0B-BD5E-21E09F16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B81B61-13DC-41C6-B10E-19905E93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11F452-BAAE-4D5A-A482-B65A70CF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0B31FC-2252-4428-9B24-99C068CD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DB11BA-3421-411F-BF14-7E5C8DDE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1E0D03-413D-4720-9F6C-D74894EB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6DDAC-3E3C-46BF-8777-ECA6BD67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EE3674-9DCC-49F1-83DD-BEB0D18C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DAE76-CAB6-4B00-B2C6-E93159A0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D36B0-F4DA-49A1-AFED-5F43FAB8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D1002-7818-4F43-99B1-EBEF9A2A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07A0E-A46F-47E1-A439-BDB4384B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D453D8-FFCF-4A51-8D2B-5451446D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040A6B-665B-4CEA-8CF8-406846E3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9C02A2-1556-4CDB-B4A5-2957486C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40D3C-55D4-432D-83E5-50D1BA31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19A474-B10A-41D9-9994-57868B0B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968EB-5512-4580-B884-C5205162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1714C9-FF06-497B-B287-50C00019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F4138B-B1B9-490B-861F-74C33270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6C209E-859B-41FE-8B86-68D99E1B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E13858-6B84-41FA-BBE2-68CD9B81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918B8-9985-407D-BD6B-842A6932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545BC-BD22-44E2-9F35-738FE080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4D79FA-101E-4EF1-81F1-4772ED2B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37C9F4-54D3-4277-8709-0EDF2350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5F2D9E-E8AC-4043-9973-712725E4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03E35E-A780-4EC0-87DF-BD8051E0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4CF913-32D1-403C-A5BA-E202E285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E0D18A-4655-44EB-831E-ECA386E1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710962-2596-480E-9485-C24FCC2F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7170-578F-4765-AE7F-24F73DCF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0AE028-4128-4A20-AE8C-6D3E1622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554C39-9F51-4459-9B89-2AA470EC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A866AF-DBF0-48C3-94B9-7408E140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EC5D88-7CAE-4D8B-BCEA-001ED4FE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20A14A-A436-4EA8-B4DB-75FC3C05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358CF7-5781-49E7-BA43-2317B3C4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0DFFF5-1595-4C9C-A1CD-B301232C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81D408-3E18-40FF-8EC1-B0BE3E94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4C5D7A-4E27-4588-A309-9D775197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515B25-C572-45C5-A76C-17D0BDFD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B8F5A7-F9B3-4177-9EB9-2B1F4BA8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D5FB58-0087-4BFC-B23B-FFF763EA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70BFEA-5B47-4413-A398-9FD50C8A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856489-82DD-4954-AE6C-4C34F28E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68F66A-5260-437B-991E-04B40E4C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856AC8-6051-4460-B80F-D2322A0A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90B7B2-291D-46FF-A942-7B3C182B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CEF2-838C-4E73-A5DE-ABE7FA09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8CC-DBD6-46A0-A0E3-A1FC3220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9621A-492E-41AC-B8DD-50E7E6CA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469-C400-4E9D-AF3C-68A6E312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3495A-D5F4-4A7B-AA2D-8F41B580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21448-26BF-4B39-971F-311562B7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03C36-4410-4F37-8D7D-D6B9B14E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5D491-30F3-4625-8A2A-8B6DC496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E22F6-9FA4-4006-A0A3-A1D6F9CB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36D23-BA4A-464E-9B4A-B9C1041D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BC819-38E7-4AAB-AFE0-1DF434BD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E65E5-2404-4D84-875A-55B75107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EC92D-74A2-49A8-B521-1E48C3F0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F5AA7-8614-4B96-AD87-83D7CB3C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CBC-A283-4D49-9E7C-BEB91861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BE485-6C44-4F7A-9C5A-62450C94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58459-38AF-4716-8D89-1AF882E5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BF5C5-B893-421B-A4FE-21649819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129FA-8C17-4449-9766-F147C753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D9E0C-281F-4230-AC69-82F286C7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AA105-E22F-4751-B1C8-AA029F74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655DA-5F17-4FA1-ACC3-99876E0C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A265E-DBE9-4C70-A273-98FF5CFB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EDF18-2167-4DE1-B52A-FB2A5430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6F1DA-E9E5-48C3-AAAD-09EB4C74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185-DDC9-449E-9F52-F582C59C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0FD01-A3BD-4DD5-8330-57E6FCED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08CC2-F99B-452A-B40C-FE159304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F2B2B-9731-4C31-BAF0-F99EFA26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38C6F-1763-474D-B496-9CB99D95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2B62F-BF45-438B-995D-E1CF9712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FCF98-D37A-4BA7-B0D7-3E3B4CCF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4A4D5-733A-4D0D-97F2-4D4AF9B5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64502-67CF-4D29-9083-D5081E4C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F5532-3715-49AE-AA0C-CB8663FD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DC060-9910-44E8-85EA-106BF7F9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E04-E4E1-411A-A269-851D34DB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C9F30-EEA3-4F00-858C-9DF68707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043A2-A655-493A-8546-9FB728FE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1D6E2-2F06-4265-A4E4-CB09455F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9236E-8CDF-4CFA-963E-801136BE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356CC-5ABE-47CA-9DAD-DA8FA115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B8ABD-03FD-4D8F-ACD8-E2F3EF32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902D6-F2FB-47E4-8E4A-2C07BB38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81715-EC98-4039-8C8E-DE4ECFF2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0ECA9-4EA0-428A-BFA9-6BDE2F0C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D5251-07AB-4017-A6C5-3785FEB5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2D5D-A969-41CC-91F0-693F05EE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95851-DCB3-4FE8-A72B-7A96EDDF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5EF63-5B01-4817-B1F5-88E6BE77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BAE13-CB73-4969-B659-A593F218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E4803-55F3-4C85-938A-9AE5F840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12050-F794-4D2B-9AC8-2751786E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ADE37-E9ED-4C65-A460-0E60DF66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8C0CB-73E0-4DF7-BC8D-D455DC14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B1A43-522B-4AFF-81CF-790D76FE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2A1CE-DDE6-4882-86FA-653BE0CC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AD3C8-7B94-4B22-8FF4-F33EE37A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AD71-9774-4919-8BB9-9672F626DB5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0F92-9D88-4F51-AD63-459C0373BA1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C9C0-E978-4AA0-8505-1982390E2A1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AF8E-0C96-472C-90BD-FEE56795410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D5E3-0930-4AC0-A516-77C1AE4AB3B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163A-FFAF-44D1-AFE7-2E0C54A5E81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63F8-20BA-4827-BBC9-8333FA4E975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60BC-04CE-420F-83DC-2DC107205BB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E010-B3E5-4B51-B7BB-17AC7B52BBBA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34CC-64E1-406E-9531-FB83368F23E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DC5F-EF87-4882-AABB-07583495837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7A06-69C7-4734-BABD-485CCB45DC2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7414-EE3F-47FB-BB32-3B0570F29E9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8EE2-C448-46FB-9304-61C72B82670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18B0-4AA9-4EC8-B3DD-4487BC96C4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BED1-C15C-49C6-9CB7-BF598DCE3C6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642E-729E-4446-A33B-B44CB17B872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3C35-3D78-4AEF-A734-37D2EB291DF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ACAD-EB4D-4F85-9A29-D747B829AFD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8449-FE67-44E6-B4C8-6D9378B1CD8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C432-8720-4B7D-A4B6-6AEBCE1743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D44F-A49A-4247-9F29-CE1EF8C2DC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22C6-0C1A-43CD-A7E9-53BAFAB7D82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BE66-140F-43A3-A7B1-E02F7EB39C3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5BB8-FC4C-4DDF-BB79-434B616C2C9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BD5D-56CA-419C-9DE2-438694ACE9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2F98-9436-4C73-9003-DAE12B46489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4CCF-3396-400A-B257-DD32294DEA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781C-3695-48EB-85B0-07678538F6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B836-BE55-47B1-BD1D-87EC31F59D2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5E24-D535-4B70-92E9-5459B2E167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D002-F0ED-49C9-9A1F-9B1973EE69E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6C6D-5989-45AA-834C-B235E1B827F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9BFE-CEB0-4FC2-A153-116A836652C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0B52-8266-4780-BBDF-203982FB05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430B-7BFA-4BD6-A304-F6429732F83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D8F7-ED95-4FA3-B70B-829CCBABEEB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52E1-2734-4446-A9E6-F9907DA6D6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623D-D8DA-4FD6-832A-8AA0D06D78F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FC6B-8765-4419-8E95-87691F1E888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F703-0E94-4CCF-BED5-3978C539478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C2ED-50E7-4C2F-A1B4-5AB1D20882A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1EA0-7166-4EE0-932D-7C511AFE81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9DB0-8797-4ADD-A834-43371C55FEF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8EC4-89C7-434E-A8C4-40CE213481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F3CF-ED99-47FF-82D3-A3B6E9F3C2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EC8A-5861-42C7-AAC1-027AA3EA17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4D1A-6FAD-46B6-AA1B-17A6A749F8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9923-2A2F-4BC3-AF6A-C1E61F7A279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CC39-D476-45E2-BD14-6CF5D217196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07E8-A19A-4782-A2B2-DCAB8714871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6662-C781-4314-9C1E-D9DECB13DE5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0DE2-D6A3-4491-A3BF-486D742E98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EAE7-3025-4190-BE04-7E91C30046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D3A5-6DE0-4044-B722-A15A9E545F9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7637-D829-4622-B14B-2F42B6D335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53CB-B0F7-4D4F-AE62-05F21DCAD9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C019-0094-41E0-87D6-A0BD8EEDE06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CBEC-907A-437B-B728-349B4ECDB59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9ADF-31D1-41C1-B4DF-AD8968DA389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6450-BDC5-47A7-B07D-1D3884C343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3E5F-3EB5-4B1F-AE38-314C6456EA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BBC4-A751-475B-8BBF-392DED869B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B713-4695-47C0-91B7-26598B170A0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C5DC-CE4A-42FE-AABF-0CA9B49B445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D227-E2A3-48C5-A10E-3739D9A5FE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BE40-C199-4FBA-B845-D6DFA840985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F662-CC00-4D59-BF7A-E514F4F67E3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DC2C-6096-45C3-B71F-00F5A84739D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BB4D-91D6-4135-B7C4-D563CDD7752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8EAC-7C20-479E-96D2-E434B7CF82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49AF-BBD5-49FA-99EC-70914CF74D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9-08-06T10:47:20Z</dcterms:modified>
  <cp:revision>122</cp:revision>
  <dc:subject/>
  <dc:title>Aims and Objectives</dc:title>
</cp:coreProperties>
</file>