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A459-5671-4F65-92DF-07179717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621-F264-4CAB-8411-97D0BF63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746F8-E594-4903-B08B-ABA2218D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2E9AA-9469-4C55-9ABD-E3B7B2C2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06B36-6812-44D9-A271-9736E5CB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F7662-14C6-4C6F-8553-95A0D3FC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D4B1D-3EE1-42A4-A9AC-CE63F901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66EFE-F062-486E-B039-95238FF7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87F54-23A5-49E6-B5BA-BC0155C2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D06E4-B937-4A87-8D44-000E224F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3EED5-3044-4B4D-866E-F1F5A5CA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D3041-DA67-4B60-A789-249CDC4F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FCFA-57D6-4E3B-BA8B-700942F1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DB0EB-4D49-4476-A923-F535A81B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07A93-8169-44D5-BB56-048356BF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85477-0B9B-4D5E-B6DA-C7D6EB98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4F08F-1776-4F5C-807D-38384F0D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373F3-6B1D-4A87-B4E5-76B11122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DBB6F-7B2E-495C-9CF9-CADA75EA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A7CC0-46DD-49A1-A87E-383EAA37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9452A-CCDE-4142-B79D-2107174B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519B4-A4CE-4A55-9975-C68A67DD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3EE9A-35C7-45F2-8115-2C77ED1C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08C5-CC65-481A-B75F-ED9B9EA3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A671D-BB02-4580-9097-52E9E303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F4965-D2B6-4E10-9725-C0BE037F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4B957-438A-4C9E-B159-FFDF39BE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E222C-F9C1-4867-9BF9-89436B2D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582A9-10FF-4E1F-BBA8-32563AFA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F7FB8-AB62-455B-9803-2357E000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664D6-C32F-4298-BA79-66621AA8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DD2F0-0816-4759-9546-9FB3B930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81160-4894-40A5-B631-EE6203CE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A14EF-1EC5-46B1-973F-B6B1310C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7EAD-7FC8-4F5B-B001-4DD385A2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E098F-BA42-4A8C-881D-AE3A7FDE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AA114-1F92-4A48-8292-399EE93F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A4506-D31F-4838-B7E4-DB4B8878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CD9DF-B71D-4E3F-86FA-84949F7B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7A223-CED0-439B-A0A9-AEB4DA92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0FB80-A4EF-4B89-9E8D-EC9E17B7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B124B-1033-4FB3-89E4-89975E5C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514AB-5FE3-4EB8-96F0-F438AEB2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B128A-89C2-40B5-9E78-A8DE23AB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12AA6-6259-4F41-96C7-08845CE0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CEC1-ABAA-4E92-AEC7-0013B16B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64D09-B65F-413B-AA9F-8201B1C1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E4117-3B5F-4B61-9B67-123FBA2A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E1874-C94C-423A-8F76-4499DFD9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0113B-B9D0-42BC-8927-CF4C7F3A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21AC3-286B-4D37-ACA9-9326BD72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2D04F-15B6-4C49-9F77-A67CF412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BA2F42-341E-4D30-B07A-F9644A87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42323C-4325-4236-99AC-3C7B9A49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2231A-B084-4D1C-9789-F8C4206B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37116-E744-47DB-A19C-CB3BCF0F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AF7C-3665-4A6C-8EC7-C36FC250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D9F86-4692-43AD-8CED-569CEC07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D3046-07E0-44E2-B045-D41A48A8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61003-DCBB-4BFC-ABDB-DBDE3832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A208D-FAA2-4A5D-B7B3-FAFFB931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F30A2-3EC9-4DA6-B7F9-418CF6D3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8B26DB-BFFE-4026-BC5D-1AEE6698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39DA7-C17A-4CAE-BE6A-DF69DD14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E368B3-C322-4886-BEAE-2039E867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631B6-29CA-4B87-A9F8-B2FC896C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6126DF-DEAD-4D4B-AB92-BB2EB4D4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27D9-6B8F-4754-8CBB-AAD07ECA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F0533E-54A4-46AF-9569-DC8EFB09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FDDD95-9B19-438D-99E2-5A1C5232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6E97B9-F6C0-40ED-9771-D6994E33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A9B88A-BAF6-4753-B271-55329F01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035445-8CD2-425D-A810-16DC904A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3822F1-02A3-42A0-9706-3C9FFFF0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F4EE41-9B8B-4987-AEEA-C5FE6F2C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3A0E5-D780-4E29-AA86-C905F746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3BE0EC-43D5-4CD8-BC7F-1407EB43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BC5F65-B075-4903-A6D7-EABE74B5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B370-9DA4-4580-9A91-3F9C0E8A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E05EC4-D91A-4454-9B20-3819C657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69EFF9-9EC1-4290-A7EB-758D62A2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C3C0C8-AF8B-4B82-ACD7-5F124B92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82FB3C-B70E-4C6B-9DF5-D9B22D3D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3014D8-E63B-4B8A-8293-7D5D0A41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7E35CD-7F6B-40DA-AB2D-3863D0D4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5808E0-83BA-4A63-9756-547EA004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7E5C7-685C-4983-B314-8004426C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C88D1A-E725-45E5-9A3D-09EA74B8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4D43DD-086B-4081-8FF0-27A1BBFA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80DD-5A58-42F8-992D-4141287A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9BD04F-DC4B-44C4-AE8E-D451451F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B0FA03-3684-4D6F-9722-1ABABEEB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43CAD4-D74E-4653-8302-93206B3C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A79202-0621-4CCB-B261-27458864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609890-BA92-4FF1-9198-7CE163E3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88B00A-476A-4276-959F-AADFE5B7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5BE44-B697-4AA9-93E4-088E0716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344C1D-478C-42FD-80D8-4036C466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D859A8-C755-427E-9A8B-8628CB45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B22748-522C-48CE-B9FF-BE9206B3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DD10-E2F4-4CFF-976B-107114CF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0ED9A8-050A-475B-B3B1-AE02524B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F6356-41B3-4E8A-BB22-A1EB48CA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A28C67-B46F-4F51-AA61-58608BF8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C43F1C-CD34-42B9-907A-476AA252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D63DE0-7C52-41AE-89FA-B3C0D502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101BCD-9EE8-451B-9781-1F98183F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C8A34A-1D7C-4426-8A6C-33EB4541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71DB02-31B5-4D29-AC39-0B538FA0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198E6D-A4AC-4350-8395-05244087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74E75C-C791-4ED4-9426-7EFD6709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A19-5276-4C30-866A-3DF516EE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F624-D23F-4FFE-B40D-6A0264BA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2AD32F-9400-4FEF-B55E-8F0DCD0F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2CD4BE-1CBA-4C2A-B9A6-123A90EC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EB644D-A600-4BE0-9AC0-C5E3F3A6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DAAB1A-E709-4F24-B1E1-27B2D53E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54215E-B00A-4CB2-BE29-86186A91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6DD8F4-1B75-4E48-A33C-4E34D7FC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93FFFF-7AD1-49E0-95A9-40BBEC00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6C3FB3-148C-4D52-8F90-59D9C84C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93EEC1-B909-4AF4-85F8-69EC20E8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B6EF19-266B-4EE7-BDC0-C8696DBD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33C0-E43C-4F70-BC45-74FE42DC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1F3751-44CE-4735-9B91-C3001DB9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6E34E8-1C0E-4B5F-BC9E-A23540E8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C2DF8B-65C3-4FD7-A1B6-5BDB4DC2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ED3DB1-AD5F-421A-A9A0-FE1D3C37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C41FA3-1E3E-48D4-924B-B593DA0B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0941A0-2EBB-407C-B3F7-7AB598B5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E1E033-38A8-482E-85AC-C0F5A7E7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AED4-5A8A-4AB9-B3C1-4635AE70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6D52-D826-40E4-98C4-D3F2F988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2810-05D7-4443-A204-175EC94B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5DD4D-CD9F-4296-A990-8D7F7518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61650-B7C3-4CAE-ADE3-1DA6838D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AEDCA-0EA0-41E9-A20E-43C4B3FD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629A5-24AC-4A43-8EB8-7F67FCF4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38130-55FB-4D87-B32A-ED7105D7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E3E3-26AC-480F-8CCB-76EB4F87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03A88-BB10-4879-8D73-E729D395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ADA6E-47C5-4B2F-8754-FFC55E1B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AA5DF-1406-45D1-BC43-10A52C61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855A9-0614-43ED-A2DD-CFBF3A4F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06F84-4EAE-433F-98EB-585F4753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B36AF-D69B-413F-9D36-F846D659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89D2E-6FFB-4CFA-A88D-FA7DADCA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C584A-63F4-4045-8C00-B42C3DE1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6E57B-468A-44BD-B5C7-1CDAC1C3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9A752-CE91-4E6F-ADEC-06A31A5F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C538-1EF6-4FF7-B8C2-7264D2DA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29244-8786-4ED9-A055-0E2A27A7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5E754-F07B-46A2-9BA1-A4F8972F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C0E73-6AD4-435B-B054-EED0D765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09A30-BB7B-4B10-9A18-95680E1A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B99A0-378A-4FF0-855A-E132EB63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AE5B8-AFBC-428C-81FA-C82253BE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5B639-5D14-4B6C-BC82-145D8392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5A4C1-5534-4517-A117-2730D700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6149A-DDBE-4340-955E-40AD4873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53EAE-47EA-4307-AB81-F3A9E932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1717-A525-4432-A1E2-63FE7A77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A30C6-9345-49FB-84D0-25BD915A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F44A8-B917-4062-BDC7-FC77C36A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405BB-3144-49A9-95B7-A6A73220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96773-CB27-4D65-A460-D516AD1F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98F27-8899-4B41-9A93-C0B4B974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8B17B-9F67-4B3A-876A-D6F17B11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8E46C-8C77-4DC4-BB94-6FF3FF3B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CAFB7-2114-4326-AA15-2652F2AC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CAAFB-264A-457C-8B2D-F8CA97F2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0C50E-CB4B-404D-A99C-8EF525E4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42F-4421-4C20-970F-873E4A45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5A4EA-262C-4870-B17C-CD145404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E53B3-B062-4B0E-AE75-FFB78CF4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571A4-2700-42D3-8194-78511324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47AFF-8B38-49F6-AF27-29BE2C3E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E2646-0B09-4DF7-A0C6-5D21D60A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3E646-E808-4004-B667-E538CA68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6F110-DA85-48DB-A94C-165515C3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B9EA0-5D19-4DCE-B1AA-A1437B8C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B4EFB-7A96-4D59-9AF2-E9DF5898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5852D-E132-432A-8E10-0B53D64C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D1A5-696D-4C3D-A174-D55192FF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3F752-520E-4B07-BC9C-813DE150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8AB0B-F5BF-4B5E-B481-0D2CFA34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8AF19-7964-4944-839D-E068A77B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4AC74-EF5B-439A-84CE-1307830B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1898E-DC07-4197-8D40-9748C23C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C6255-D288-4896-BB79-B01241BE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5020E-320A-418F-8754-DEF1A138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AA954-6450-4547-9031-EDA0804A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B84F0-A785-4DDC-82DB-FB44A023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1CD47-0C9B-4A22-9EEA-5B961D19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094C-61CB-4C8B-9A1E-8A285E54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F95FA-A54C-41B4-8378-4E99297E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02225-8C9D-4E79-8942-C70B5AE2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B5376-C4CE-4AE9-9552-14C58D87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AF150-39E7-4546-AE89-28FCE066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610C3-9B17-487A-8461-5926F933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B8C36-BCDB-48F6-993C-25BFBE16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82645-3CDA-4D2E-8DE0-78A2A2F6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04D9E-0FCE-41D2-BEFD-5C0E7995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2BB7F-5E5C-4058-BDFD-18885621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60323-3C8B-4C85-8EBF-9538BF80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1345-CFB7-4808-BBBF-1F7B4E73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E2371-5E62-46F1-BD23-5865A8E3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4081D-99E9-4EFE-9CD0-85DA837A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1DB18-3DBC-4FBD-8AC0-D9613F22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F43E2-2403-4625-9F99-132B2BF0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FCE54-68C0-4C8C-9811-D5D32A88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BE8E5-1D61-44F6-94E6-7E06F18C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F8425-AC14-4E8B-8E59-DB770A9C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7FE65-45E6-451E-92F2-4E637E1D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4B1E9-91C5-4F17-84DF-2AB3E676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9A512-2D94-4A35-9BE6-1FE4C354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F158-9736-42D3-9B23-DF9BEAD3496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401B-8BAD-4A3E-991B-A10256C9480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8CA0-3091-4370-A3F8-1A7EF1AB461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8809-9D5B-4893-8EC0-28A3A0C21F3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1816-E332-445E-A056-89966B0B030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CAB6-3601-4010-BB97-6896CD3EFBD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84EF-FF0A-4A7E-AF7E-FFEAE117836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AAED-9615-4A19-8F90-0F7BEEF27F9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463C-42AB-4E7A-B82B-C7D4A41236D5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F185-3B3F-4612-AF51-7204DB3C45B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428D-AA6A-41B0-B33F-1C83CA5C509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F69E-FE05-4B07-9908-485F2F90149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C12B-F8B8-4922-8A6C-8B8604BF0D3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04CE-D5C3-4E6F-93BB-BA7127E5C55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98A3-4064-43F2-8DA1-EA148FC9536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BDEF-4349-484D-B291-F90571FC017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4DD0-62EF-4F46-9411-4B053566118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742E-9EC2-49E3-BD01-5772BC9118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4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4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681F-6F78-4679-9543-A4E4032D90B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A9E9-251B-431B-9364-6BB74941E7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46C5-AFD4-41AE-AA03-4206EE1D39A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3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5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6593-B3E1-4C84-9FC2-ABCD74BEE9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0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FA7E-B168-4900-B6A0-E40C3EC737B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A3D8-4A3F-493E-8E2D-920FE6034E5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2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B45A-3920-4D02-A5E3-CD4F8CA541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A3FB-D655-4381-916D-510A634FF35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A2A4-D983-4538-B8AA-23ABE62676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9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26B4-D209-4498-B765-F41B96079AD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33A9-5F33-42BE-83EB-9C5F829F47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31 October 201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C4B8-875D-4E47-83F1-7CBBCB32B3B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1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2541-1E3B-4460-B68B-D46FA23AC9F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2A53-1214-4381-BD32-A5ED339CA94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131B-B2E4-4504-82EF-2CC53DB7359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B741-B706-4921-8A99-A538C95AFA0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23BF-B938-4A63-96A7-6A91538FE62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2A39-456C-4210-8ACE-D984FEB2882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3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4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5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6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7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8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89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0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1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2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3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4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5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6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7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8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9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08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09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0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B6D2-D141-4941-8AB1-5CA9F0548E8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16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7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BCB5-D838-4382-B61E-E7C37806205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3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A87D-3768-4A04-AE20-6B021F7386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9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5C30-0663-42BA-9BCD-D77839B647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81DE-4E34-499C-942A-1553042048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5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189D-DAD8-4639-B597-0B19C2AB3F9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6649-69F3-4BD0-A79D-FBEA0F19CB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D082-68A1-4A62-A3CB-0ADA5707AA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4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A65E-40D4-4B33-9715-9CD9ED165EB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221E-9D99-4FBA-BE91-F8B841DC49A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66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A642-4DFE-4311-BC61-416A2E89014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E0C2-FB13-4508-8F10-005A58CF81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CE55-1F5F-4279-913E-61920BA58B0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3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BF1D-9C64-4485-966C-41CFF9734EC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8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0869-AF61-4DB1-B7CD-7FD958123E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2791-E524-4375-89B8-BFA66F48F70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5E67-738C-4D5C-B143-0C05C9EDED5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1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3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C03D-45B3-4A17-86D0-D06F506E95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9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3E97-2C65-41D9-9F10-C4E87F37D58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7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F6BE-13AF-4410-856F-142358A0EFB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4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998F-48F7-421A-851A-CEBAA199CC6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4588-B920-4F88-B129-DC22FF30037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37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38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FA64-0220-4A66-8573-E2C72AE48A0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A10A-376D-4939-8336-D289B25848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5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8422-9792-4F63-856D-50466FED92A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2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4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4F0A-22A0-4EAE-B8D7-4AA2C19EE6E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7FF8-1E10-4EEA-9196-FDE639F76DD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1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566B-15A0-473F-8E84-C750DF1DF2B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9008-6E91-4188-939F-C4DEFD30D86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3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82A4-8AFD-4057-A4FA-8C8C3B2B5B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9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BA43-62E8-4486-8BC9-410DC75B57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A8D1-D7A1-4455-AF02-AEE61EE112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1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1FCD-AD76-46BE-A2C6-8E6DDE232C5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2414-D0E7-4DDF-B68E-A5A06983EF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FD99-F4BB-4F52-8041-161781433C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BB86-E62A-4EEF-BF61-CBF572673B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B227-026A-49D4-93E0-C43F7D61CFD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9EE0-DABB-4977-97A5-9053DEDD635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073A-2C69-45FF-B15C-3B7F523446F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4-07-22T09:46:15Z</dcterms:modified>
  <cp:revision>101</cp:revision>
  <dc:subject/>
  <dc:title>Aims and Objectives</dc:title>
</cp:coreProperties>
</file>