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8AD80-62E9-4642-97B0-7C3D8DBF8D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F6BE3-BADB-44CF-969D-B04DF81C81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86551-F95C-4739-854A-CCAD048EFB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DC965-241E-49F4-834D-53D8777DD2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4CD00F-5793-483B-B766-9D255D354A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06E08-58B6-4964-A7BF-E29D8EDE3F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5CD0EE-A5CB-4A20-9B9D-F5C8A4680A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10221B-50EE-45D3-9963-1BF953E563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772268-B7C6-4356-924C-C7ED0FD56C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E95792-A82E-4A85-8E8D-4E87729EAE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755A2-30DB-4664-86D4-EA4AC4B6E0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AB626-AC00-4714-8B79-76BE033DB9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318E4C-ABCF-42C0-AB9A-C8FA9758E9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7B4AF3-0FF0-4292-9E85-702ED0DE53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8FA23-8C62-4687-97E3-FD61A9D992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5EFA37-6994-48D9-829F-B9DD463EB93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4B5CEC-4C23-4892-ABA3-0DB23271A3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71396-1210-4068-8EE9-2AE3FC186F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354AD-54FE-4E9F-9390-5FCBBACAF9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ACFCE-6F1B-4350-9EEE-7B2DE55FBE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47086-257A-46B8-92D4-78E0F645AF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BADD6-D15F-46B1-8491-B3476E63A2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1C11F-1437-4042-87DE-AE99696A41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DD1D4-4095-4602-9E2E-B969B62FD8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3D0285D-45C5-40B1-89A6-026A12D8AC71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1F118B1F-17A6-4345-B68B-DD51E6E25E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777C9877-6F8B-42B4-8469-89DEBFE840A2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E1F97FBE-92F6-4A84-8472-3B38DFA9F5B9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5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886200" y="5334120"/>
            <a:ext cx="45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2 task-group pairs have equal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604360" cy="2547720"/>
          </a:xfrm>
          <a:prstGeom prst="rect">
            <a:avLst/>
          </a:prstGeom>
          <a:ln w="0">
            <a:noFill/>
          </a:ln>
        </p:spPr>
      </p:pic>
      <p:sp>
        <p:nvSpPr>
          <p:cNvPr id="145" name="Oval 9"/>
          <p:cNvSpPr/>
          <p:nvPr/>
        </p:nvSpPr>
        <p:spPr>
          <a:xfrm>
            <a:off x="7308720" y="299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6" name="Line 10"/>
          <p:cNvSpPr/>
          <p:nvPr/>
        </p:nvSpPr>
        <p:spPr>
          <a:xfrm flipV="1">
            <a:off x="6659640" y="4221000"/>
            <a:ext cx="1441440" cy="1152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157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8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169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6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4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 (permutation bloc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uld also use a minimisation approach to balance e.g. MinimPy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30.50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66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8.7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2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5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8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241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247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8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66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70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274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89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93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9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300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4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2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9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0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4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54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7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128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8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13-07-18T12:34:18Z</dcterms:modified>
  <cp:revision>364</cp:revision>
  <dc:subject/>
  <dc:title>No Slide Title</dc:title>
</cp:coreProperties>
</file>