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B443-C561-403A-B8C3-A9310C501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1055-A607-4372-A019-1A770BBB1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4644-1C90-407D-83E2-CC650E75D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4C3B-21F5-4444-80DF-E4949531F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3DF63-7C01-4CB9-AD79-C13AA25F60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046F1-86BF-4045-9E40-1501A4CFA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D7E0B-79FC-4A4F-963E-CDB1F1E66C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846B8-D1D4-4533-9CC6-2FB8AE7029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F8071-E8A1-43AC-A1E7-3D5A7D5E4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60803-1BF2-4998-912A-E96E6B73C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943D5-916F-41D7-81C1-83831AC73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910B-75A8-45EB-8E20-8BCA8E5E4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70DA-7ED3-44FE-9161-0B93079A02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75DA2-CC44-4F65-BA42-6E53F003F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C67CC-A84A-493C-875C-0F8E657493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1D933-5D4C-4982-9641-A95F902E93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364B3-6EEB-45C9-AE2B-E8C3D2E07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2F7C-9BF6-495D-A683-29667634F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C791-A5D4-4A69-8CB7-66705DC46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76B9-E0EE-44AC-ACEF-900C44CF5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9688-F57E-43DF-8E1D-690F18B3A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CEB9-C6A9-4C3C-905A-B8899452A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FAD1-07F1-4A91-AECF-16B14BD1E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1349-BC9F-4C3B-B31C-D1DE2C606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ABBA292-B8D8-4AE2-8A32-E0FB4408580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A96B227-3634-4CFC-B5AD-E9D651C4E2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EFA9D8E-45A0-4098-99C5-34B3C8D677D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960B1D7-9542-4E96-804E-AF3345E4067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2-10-04T15:27:11Z</dcterms:modified>
  <cp:revision>294</cp:revision>
  <dc:subject/>
  <dc:title>REGRESSION ANALYSIS</dc:title>
</cp:coreProperties>
</file>