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89F9-82E3-4B2F-B7B9-87E1671EAE2D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F915-25F0-4E54-9814-3E6051A05C0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77E3-48C4-4702-A092-1472BC7CC31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7827-9C38-4440-A0B4-16C4F9EE618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73ED-A7A3-4514-84D0-FE428B10A1C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DAEF-696C-4F8A-8868-D618812E4AB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DA20-3FFE-4E5A-AFB2-ABF6BC84477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CFB0-681D-4862-B17A-FFCFD1B6055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C573-AABB-43F8-B0B9-6F01C93FA7E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76BE-19F1-40DC-B3B1-F3CA13EDF56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021B-E189-4BCB-B173-4C09F9CFDB7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64BB-619B-45B7-A145-C2F88F5EBF3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641D-F3F3-44D2-980E-570D519D544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90BD-8B5C-4381-8D05-7F067D83BEF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81DB-44C0-4A5F-B000-08974DCC830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8FE8-844D-4A67-85D9-7DE3EC080AC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E69D-2F4C-4085-8F85-1F8DC2F6AF9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D99B-9041-415E-A9FA-6C7548BF09A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5B0E-7F49-4FB9-8E57-CA10CBF5DB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5FE3-3FC7-405C-A306-E1A3E41D4DE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FB52-CEEB-41A6-B5CF-2AF072FAC54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DDE3-8AD7-4F4C-8913-F32D68F847A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6577-EAA7-48E5-ABC6-DF120FC7709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561D-FA48-48B3-AD06-210E8F145AF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5425-F626-49B4-8A99-27BB971B495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3C9A-7313-487E-B6A2-B6FD20B2427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61EE-E101-4548-A06B-DAB47E0EA39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6031-157E-4DE4-A63D-8BF338F55AB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BE8B-9855-4102-B503-10A6C813B22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BD7B-BBB9-463D-A306-770FB33B64E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34CD-4D73-41B9-A933-A19DE0C8804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4B2A-A61C-4820-9A26-01E298006C3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11C1-FB5D-43B0-A130-FA5967EF09C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A7EA-AD2C-42A9-8BB7-5340BEEC27B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C061-5F02-4A7F-BEC3-584B6ECB91A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F2EF-E03A-4CA1-BE82-93DF63756C3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1D7E-BA02-4D27-B60B-B6325A02E39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95D3-95F8-4F77-9E8B-17A58FC9945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BDFA-113E-400D-946B-8AA739140B5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5C91-FAD9-44CC-8E8E-8638EB5783A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703D-5AF6-463C-B648-25144D5AC1F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07FC-1E64-47EE-93FD-468586D0086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3674-BC22-4002-9FB8-A70D6D1BFD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134C-9932-4C19-A6B2-51D7716F78C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5B71-DB67-4F83-9996-5D352464BE8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83EE-DC3B-4758-A545-0DDE660CBB3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FA1F-A54E-4B8F-9EC5-96127A8D031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C69B-0515-4EE4-AB82-69A6D14CCD2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9F4D-7E4D-48AD-93D2-F0CC29A4915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BBF2-DDD9-4209-BB7F-A660D521F6F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C420-42BD-4AE0-9942-26905C14DB7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820E-9C45-4A82-86D5-5FDCDA49FAD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0036-B0C1-48EA-B683-2F67B253857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AF6-3A9A-4589-AE1D-A259DB35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C787-ABC7-41EF-839A-0E38095B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ED6-AABC-40A8-B4D1-E0D8C689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74B-26B0-4AA7-99F6-CE48A30E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287-4CD5-45B1-A425-FFEDA9CA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487-B162-49FF-AE77-144AC221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FA98-653E-475F-93FE-73BB5F86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62DA-D919-42A1-8E58-870C6C24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8FE0-20F5-4A0B-82E6-C4C520F6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65B-8350-46F2-9D59-3A811334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2C1-31DA-494A-B23C-8839CA78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194-D548-43F5-B9F6-5C9B727A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B134-3A75-4CB3-80B3-2B035EC4F8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7" descr="MRC-logo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2EBD-AF79-4A13-938F-0C0003BF00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1B61-E22B-4E90-9A5A-17772E74E3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E7C3-73BE-4C15-98BC-3F1E095ABC4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8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CEBC-E727-4D52-BAD9-5B1A0B6AF4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62B8-63ED-43C8-B1F9-66402B691CF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4BB8-4911-4427-8E0B-A5EC0D27BBE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50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A605-4FFC-4847-A18C-3B4A42376C4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1804-CB25-43CD-BAFA-9BA5CA4902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8" dur="1" fill="hold"/>
                                  <p:tgtEl>
                                    <p:spTgt spid="1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767D-2729-4507-AF4D-F3925DFF5FC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6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10B1-8AB8-4ED3-AB92-E5A6BEB520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7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64CD-554F-4D1A-A60C-215BC1877EA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D68D-D31B-4192-8523-D2FBE1768CC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38ED-4854-404E-AE15-FE1E68E1383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AD37-065A-4BBE-87BD-E9F61AE43CB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5BB3-F7C5-4BB0-BA62-43A93AC66E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2E2B-60CC-4785-8CC6-DD49CEC9BB3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0D2C-BD01-4D3B-A842-E6FA92E410F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E614-1839-47B8-A1EA-ABF3E3CB0F2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8354-0992-4FAB-B214-602B40DD294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E596-AB07-4E37-9680-F814B5CF200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E81E-3C08-4DE6-BB7C-1347B610A24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9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9695-6CF6-4E86-A350-99DC63F0E1E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5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DC4E-1748-47DD-AAAE-266FAC536B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31A2-153E-4833-8442-E9B1713B6E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6996-D0AA-4722-BB8D-E6EC7990630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8" dur="1" fill="hold"/>
                                  <p:tgtEl>
                                    <p:spTgt spid="2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DC0C-AF66-4CA1-A38D-92B4F6FCB5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2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F449-3903-4D39-94E5-F6B8F6E21AC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30CF-8120-40C7-AE1B-E299762E67C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05CB-1FD5-4AB1-9D70-97D637DE76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F7E5-5338-4F8E-82BB-64C8D77FDD2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22F2-4C43-4F7E-AB5B-6A4E1568903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44EF-6793-4902-96CE-E9C6B6AE856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5550-549E-45B9-A40E-B72E225BC20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56FE-DCE6-4064-BA5E-1661F273C31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21BB-DE06-4D74-89EA-2D8A5E83101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CF5E-14B8-4FA8-B1EE-A483061D53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1C5E-DF57-4D8A-995A-0408FFD7AE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67D6-B225-4C9D-A3E1-504477579E8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E975-C60E-4230-AB90-857F3C8A93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D574-8F78-4B6E-A3B8-689737E2463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990F-ADE8-4037-A652-649491AF874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C0A0-2D9C-4624-B195-9D9722F35A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99C3-D52A-4AB1-80ED-8CB0B51B017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C840-7C2E-46D5-887C-E2659D33417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0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2B1B-ED06-40EC-BCDC-1D6EC0E526C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E13A-5848-4626-B7FB-9D584D5717C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47BE-85FA-44DA-B2B7-B5243047E7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7C07-426A-4B99-9AAF-972B8CEE69E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0380-FC33-4784-9830-5621B928284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FCA2-940B-4656-A078-419CABF79FE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B0BD-B6A6-4B3F-878D-EBC852CE032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6CFF-623A-4B9F-89F3-24C629A7EAE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AA96-927B-4BB8-833A-E3137CCB264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542A-4B90-4563-B73C-AD40F06AD1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D215-0A99-4A25-883E-202D6115F5B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CAE6-09D1-49BA-B15B-8C38AA3F15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65A6-188D-4F89-9536-5AD7FABDF50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7550-7603-4B9F-ADD4-357D788722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CF4F-B0D7-48DA-91BB-B72089D9FA2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0A3E-2A0F-42B5-BABB-434E5AF842B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F903-015C-4BC8-8D37-8E4B8A91331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5C97-3A4B-4F24-BB64-5A5A454F47C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D148-3957-4875-A5C3-F1163EBAE1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29th Nov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5" descr="coversmall"/>
          <p:cNvPicPr/>
          <p:nvPr/>
        </p:nvPicPr>
        <p:blipFill>
          <a:blip r:embed="rId1"/>
          <a:stretch/>
        </p:blipFill>
        <p:spPr>
          <a:xfrm>
            <a:off x="6248520" y="3657600"/>
            <a:ext cx="13716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B65E-D5DB-45E0-B811-AE0E01A806F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1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BC10-EB7A-492E-9EED-864677E5657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DDBF-0E7C-49ED-B2A9-848E73BB343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7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2-07-20T10:30:27Z</dcterms:modified>
  <cp:revision>90</cp:revision>
  <dc:subject/>
  <dc:title>Aims and Objectives</dc:title>
</cp:coreProperties>
</file>