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FEA9-20B8-416F-AAD9-EDBD2A433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3354-CF55-408D-AA2E-98C4CC19B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B8D1-62B6-42D8-95DE-74ADCA61D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4297-F467-4C4C-A683-A73DDC871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A9DA8-E34C-4079-B647-0572D7E7C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BA832-CEE5-4879-81A5-40F253244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8526C-48FE-4653-8AFE-EE9C9C969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4B88-68BB-4D00-894B-C28A88D91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7F0D-C5A7-48EA-B825-45763AD1D0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22CE4-0AAD-46DE-B649-52F717077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01A7B-57F0-46B8-8B79-8223E3036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CF35-A8A8-4A0E-8B6C-B33C63985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2023-D555-44EF-AAAE-C5B359CE80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5D2F2-F52F-4173-A19F-9873E224B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8E3BB-9DD5-4BD7-8330-9DD1E419CB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9807-118C-4247-860E-30048BE27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FBD9-F969-45BA-BFEE-95A8E1F2F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B148-8C4F-4659-B16B-AA8D32CB2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108A-D8A9-42A9-9804-EA946F6CC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A58E-3EE9-4FC9-B24A-1804EE289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8A2A-AF05-4496-9BC6-4F08E44FE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8D72-CA0F-4ED1-9041-062780505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5FAB-0769-45C2-9F87-84B32363C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33F9-0E27-4510-9DCD-EC40C9C72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0D0E221-DB1E-4374-B2A8-6574B6D71B5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B28931-854C-401A-8F60-0AE6925C49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66269A7-69E7-4C99-8793-3DF97EDE3EE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72FC175-0935-476E-816A-49A561FA2D0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2-07-19T09:40:31Z</dcterms:modified>
  <cp:revision>344</cp:revision>
  <dc:subject/>
  <dc:title>Exploratory Data Analysis</dc:title>
</cp:coreProperties>
</file>