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BB14-E351-4086-A3E4-17B31DF70B12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57CC-829C-4DC5-9001-8BD58A075FD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6EFD-E234-4A84-972F-48A1996FBC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4CEF-932E-4834-993B-64DDA34EA3D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C6CB-1FCD-4D93-BF2D-A39C087914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8749-A0AC-4766-B003-DC72044E46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8142-6F85-4CE0-91F2-3956931B97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71CD-3926-408D-9816-EAFE2905BB7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8212-F3A0-42CC-A28C-FA9E5C36C3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1E15-58E4-4DC9-ADBD-E0829DD753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692F-DD32-407E-933A-9259CD92B9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D4CF-06F6-40AE-9ED0-CFC470104D4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CDB9-54E1-4E00-9DEF-D2FD6BD0C7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E25D-028F-452C-B82B-93DB806140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0664-97CC-43C9-B316-F3DEAE3350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54AA-9DAC-4734-847C-ADA9E0E9EF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5D58-3711-4B36-90B8-2F52D4926E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C8B3-A2A7-4812-8D8C-DC059F59E3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9AFA-8660-4980-8725-8125443B6E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99CA-A0F2-4E11-A930-D7F70573D5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D5C1-3658-4905-83EB-982718968AA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9870-9277-4EA8-8AF2-58EBB22404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D28D-063B-4416-B60F-2B1D8D1128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8A53-6D7A-4FAE-A9C9-2BD30BD379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8363-9ED1-4F91-96B6-D45E6D378D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6599-3116-4AAB-8EA1-61220947C4A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C433-82E6-4801-B311-24297A07F8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A418-9844-47C7-9DD1-0A42A10BEC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3F99-BBD3-45F7-9300-2C81D06776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4932-F1FA-4CA7-8925-2DBB0B7B56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0227-AC9E-4895-B5C8-4C11CD6C05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6DBF-628F-43DE-8385-D99A5496AF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C352-D63C-47AA-A73F-24CCF8BCBF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8C86-CC80-4D02-9F41-9678B325BD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1826-D38E-4AD5-AAA2-D1DC9F817B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E6CE-3028-4E6E-A516-99059C7E3D8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42F8-837E-4695-9F06-20AAF81E47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F031-EC99-48E5-B8C9-4B1BA73D0C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C853-44A1-4D75-AEBE-B4B770DC90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E818-74C3-4DC3-BC0D-F88B87F2D0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5893-79C5-4805-9D36-C1F35E5F29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CEB2-A1C8-41D1-B011-A43E87D2C1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AFEA-4EC3-4A96-85F8-B4F59757E3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1A4A-4542-4B69-B760-97D0DB3814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572-3AD0-4391-AB36-FC53ED58E3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DA64-6C22-4BA2-9E5A-92DEF611DE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A0A1-778C-42D1-8781-F6D4EE27B6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A832-A532-427E-AFC8-14C88E0BB7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5BBE-3454-40FF-A35E-FB670520C2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1CD2-0F07-4F22-8705-2D67EC0FBA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F260-7A73-48F0-A3E8-DBC9FFCCCD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9F7C-9D3C-4474-A758-51E8F09BB08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58DE-2E42-4159-A27B-8585C51FA0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E4D-92EB-47F7-846F-30AA79EF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16B-F212-43C9-8D48-A0B38FA5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37D-8104-4654-87C7-6C972D1B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714-49E9-4024-94A8-4D35CED5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9C3-8314-4CD3-8298-7F26682F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6A8-E6EE-457D-B5D5-4CDE5B82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E31-5C61-4E88-B309-2599614E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81D-C137-4FB3-9073-3990694A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CC6-9A46-4F61-89A7-C410295A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303-7A8B-41EE-8330-1C430C11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53E-FB4E-4B79-9509-A5084420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55F-6929-447C-A7AD-15DCE522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4F88-35BC-4415-BA30-B3EF051EF3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D319-AA11-4391-AE71-646F4B8FEC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1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5039-EAEF-448A-B132-24E008A978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9EC5-84F8-4E9B-B5BC-9FBB13C555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AA59-0AE1-4177-979C-2F1A39AE8E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8D38-92BB-45D5-B0C1-FBE03326B9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B3B1-4A06-491F-AE2E-EFA297D535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54B9-997E-48F0-89E4-686D462D49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B122-E1D8-48F7-95B5-B18046BC53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0F72-3CA2-401E-82D7-30706FD5DC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FEF4-9173-4AF4-B174-623285D6EE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8567-DB13-480C-813A-E4751CD5EE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E5E-7B14-459A-B49F-B4085B0A8F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63D7-3F0B-4A26-9548-F7E5205D53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F806-75E5-4A15-A5C4-92DBC38B58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D4F3-6086-45BE-BA05-FA1F1754A1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AE47-9498-4ABB-A7E0-52B930B8C6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6A46-0490-42A4-A18D-97B1BFC700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0ABC-AAF6-47A2-824F-D119B35919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BFC5-F77F-4C2E-912A-88C697B9CB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6BD5-8E6D-45C7-9409-7FDCF6BB47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5CF6-33FC-4A1B-9D6B-D29ECF201C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464D-BF68-4CD6-880A-0BED9C83F5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02C9-19B4-4E5C-8275-CB1FD5A0A9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87C6-9631-4698-B56C-6A572ABC25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21E2-1553-4318-B071-2F7DAA9E42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FAD6-66C9-450B-8904-0C8BF677A4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3516-C237-42F2-AF31-DF438145CB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7DD6-2D02-47A5-8F5F-3291686890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6294-E2AE-45EF-A71D-1192A97CDB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E8D2-E9BA-4960-BE9F-3A5D34E720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CFB8-306F-488E-8F7D-32F6A87B9E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595-C005-4B3E-AFD3-2F0E42FAFE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9DF7-FDA8-487C-A13B-9AB839B99C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C603-5D3A-4724-88F5-50EF95E188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B856-B139-4B38-97AD-40B3CA035E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745E-A822-41FE-9EDA-D7D16E9D36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C7BB-C6C7-4F91-A429-661B56BD05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E4EC-B8B8-4528-B6E3-EB78450C10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6C2F-00BA-4F7F-9090-9B7AA99687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AD16-67B0-4006-BC88-C9931488FA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19AE-492A-4161-93A8-B6D4512D1C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DA66-52D5-49F0-920D-CE3149CE22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28B6-E2DD-415F-BEBE-C4D0BB2B83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2D02-149A-42EB-866E-8C70958D38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F7CB-676B-481D-96CF-0A0C700164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3F0E-00A9-497D-A668-667B878717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7A82-BE4C-4F14-BC75-9C61114028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87B5-E460-4BD1-AC34-3F304A9F50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0D9C-C33A-4BC0-83F7-0E3921B22D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87AB-64CA-41D4-8F07-C301BAB1CE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DA0B-C2C8-42A6-96F5-2B5F306344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C628-4CC5-4E18-BA03-31D13B5E30F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761D-60E7-469D-B6BE-753F4F53D6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21C4-3963-4965-9FF0-63F6C9BE33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80F0-B709-441D-96A5-EC465BACE2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02D4-A052-4844-98A7-C2074ECCBA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854F-BCB5-45FA-B922-5B2BD4F821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6525-1F71-4687-AF05-8B0D9FD0C2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7503-D9D2-46A7-AA69-9F068CA12A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98C2-1C95-4030-B064-E4CC53297E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D92A-A691-4FE4-8249-97517296D9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02B5-A189-438C-886E-E57D9DA232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7A98-F160-49C2-BF3B-DE20DD9F52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1st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1A21-A4E8-4558-99B0-7CC29B61F3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F209-5539-483B-BE1B-CF82B01FA1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04AB-86CC-4ACF-909D-9E2357F1CD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1-10-20T13:13:56Z</dcterms:modified>
  <cp:revision>82</cp:revision>
  <dc:subject/>
  <dc:title>Aims and Objectives</dc:title>
</cp:coreProperties>
</file>