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C85D-2BC1-4247-A5D6-87206BFB28AF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37D8-2E98-42B0-B3A8-436019C0BB8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8007-6CE3-4BAA-8AD7-63B034A2AD7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ABEE-20D2-41DF-801D-6CD4C4A5A9E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5566-262F-45E0-8320-9A0B56F532E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7B4E-3664-4536-B30F-AE8BB37A211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DFFC-1BB8-4F60-BDFC-3BA14D83BD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B603-EFB4-4C11-93FA-1ACF3605583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F799-DEFB-4DC2-BE61-AA5C2DD845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41AD-7196-4627-A371-C48690A4277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931B-D93E-4B25-B9A4-C578ADBBB1B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E1D0-FC0B-44A0-9F2B-1DC87BD96AC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98C4-2A04-4ABC-B475-C63ED222E2A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8967-9BFF-44EF-9695-49F12AE7AA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53D8-8322-4909-9795-55A54F339FB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5616-93B4-4160-BBE1-9BCE5BC54F7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82B5-9D6F-4D47-ACA5-0B1E96DE74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35E6-5C44-49B0-869C-B9101005670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8F52-8077-4548-9EF5-6BF88DD2CE2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3AC8-98EE-4D77-A7B0-F508C02EFDA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CA99-DE42-4F65-B254-5DFF6A6784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CD39-9997-461B-AEE8-A0ACF9EB025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4226-A6F3-4617-A651-2CD3C4A7652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1AE7-C8BB-43FD-9FAC-103796E30C9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714E-E410-40F3-A2C6-7C40CFE9C9B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D0BD-76BD-405A-9FC6-45896792953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14B1-C565-44DA-B358-8E6BFAB62DB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4241-6FD6-4402-8F23-18922BFBF75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7BA9-F13C-4178-A621-1C8B830A4D5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1A78-890F-431A-822D-B96245F044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C6D2-FA88-4978-956E-A2E5DF78ED6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5CA1-F960-47B4-B083-1EB8F7AD3FB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8E7E-53E7-4C07-966D-79C053882A2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3DBC-DB10-41BF-9A03-86DAF4D5AC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6EFF-801C-48CA-BAF2-5332AA3D1D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7207-D3FC-48A7-BEAC-02D16E02062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C66C-509E-47B8-B1BF-0A59BF5ABAA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7C2C-35D2-4584-A5D7-D08054374CD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5484-271E-4C8F-9176-C50433223C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9D52-CAB0-476D-AC53-7CFF97F33E0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85EF-F423-42D3-8FF7-85C068C40C6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05D1-9530-481A-BA69-BA334F2E5AB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7124-CE43-436C-9582-A32006967CC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3F90-B145-40C2-AC68-1972713CC18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124F-BF95-401B-A651-B541C06E3C1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3605-2F7E-41CF-8593-397CA903016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5F20-726B-4D1F-AAC2-735DB9E43E0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5F2A-974E-413F-9407-9E76D6DFDC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69E3-415D-4BEB-A647-A4FC777BAED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0F9C-31CA-4588-8947-86C368E6DB8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08EE-87BA-4E3F-AE87-0E46A8D2EC1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BCA8-61C9-455F-8B16-7FF39FF418D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7AB4-C77A-42CF-873B-640A28A3677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1FC-DCA3-4D6A-8BBB-057655EA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D9EB-C3E3-4991-A845-367AC1D6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9CB-B312-4DAB-A0B3-2B5DF3F3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1A0-8B01-472D-88B4-FE5D342E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A9A1-E8E2-4482-85BA-40B78DB5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1FB-EEF4-49B4-8191-5EF76A5C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2F6-3041-443F-BC35-9A928DF7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C6C-2144-4DC7-8BA4-95B1A473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53A-F390-4378-86C9-A81C7A74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AC6-A782-406E-ABAA-8B5ED226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5B9F-7451-4B02-AB0E-C1E6D284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516-736F-4429-A000-4DA72FA5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BD56-82B8-48F0-A47E-56FC5EB8E25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7" descr="MRC-logo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46CA-4725-4C20-8BD6-EDDEF00674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FE97-546E-40C7-B22E-50E38E92FD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7950-C2D4-42E9-BB7D-32E04DBB565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8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277F-0C41-4109-8765-2FB7D4EAA82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C5C4-FED9-49F7-9353-6D27CC53E5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BF3C-8769-4956-B379-312966BFAEB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50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40A8-54BF-4C7E-9661-C497132AE7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E797-1D39-431D-A25F-341E7F638D3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8" dur="1" fill="hold"/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7592-C95D-49D4-9A06-5B02427DDD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6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E6CB-F752-49ED-ABB0-43F15CD8625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7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2989-3D81-4714-942A-989205A6B65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7CB4-C13F-47D6-B8A6-85DBE26B17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6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45E9-7638-4511-B374-75BFFFAA4D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D7E2-7109-4667-A221-3E8FF1FDD5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896C-1E72-4EC8-BD05-30B937EA74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6F67-B722-4C6C-9879-B9254D40887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1EC5-2F38-428A-8A37-665C57D9C59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8647-B0F1-4FC5-AA97-4CA7445D66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30E0-8334-434C-8A78-66B783E2DE6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258C-505C-45CD-B93C-BFC213A1B1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511F-A5E4-41FD-8B36-9600A18B73E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9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78B6-9F42-40E3-9D76-127D169CDC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5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B098-2617-4CD3-9B9D-DCA1A628EF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FD9E-6DEA-4BB1-81C9-880BA3C12E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B63E-0DD1-4B10-876B-9E23BEB331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8" dur="1" fill="hold"/>
                                  <p:tgtEl>
                                    <p:spTgt spid="2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09F7-656B-4F4B-BFC0-9FE45C10CD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2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F152-DB45-4809-993B-54DC26BC7A6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788A-2A89-45CD-9CE1-DDEE9B0245F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B6BA-3222-4CF7-A360-2913371343D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7940-B52C-4A78-A5F0-D4B550C42B6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0127-961A-43E7-AE68-F4F9AC107C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11B0-22FF-485B-AB0F-6512B2FF9AE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6FF3-5F23-418D-ADAC-E43066FDEB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B0C4-04F1-409E-B604-30169475D1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0147-AA8B-42B0-8CE7-B88C5F6C66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BC21-C7DC-475D-A31F-184596E2978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80EC-F264-4064-8112-658842AB98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454F-2E6B-410C-A478-14D264194A2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0D8D-7A39-46B9-BEFD-F7C15F96CC5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3215-C5B6-44CC-8F50-B32C390B0BB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7269-58A5-4C1D-8EDD-849B1116E1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1B1F-C1D3-4243-900E-C948AE0CC55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5AF0-82F4-4461-8DB6-28296E519F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EC39-C697-4F9D-93AC-07CD74F675C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0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4271-DA02-4CEE-A289-9FBE8667AF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68D4-CE9D-42D2-A485-B7B00A1C98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7809-A747-483A-84A9-7E99281BC5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A986-EC34-4FE5-83E8-21AF318BA53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54E0-4C62-44E5-B47A-2E665A7B9AF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6595-4D81-4635-90F2-472624D872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DB5B-AB99-41B9-A84A-DC4CF8CEBD8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B750-AAAF-44A2-B630-3F4FDB73E48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646D-FF7B-41C4-BE36-616857C766F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DDAE-F735-4CE5-92DB-54ABCA7A76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33C3-A39B-42A0-9FC2-E0154CDB4D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6AEB-74D4-46CE-8B41-A0C9271B8C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9F7D-DF08-4C12-B3FB-FFA7B34250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7031-EF1F-453C-B95C-EB3CA0B1FE0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8E9E-A8D6-4FF1-B26E-265CE391AA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3DD8-C481-40CE-956D-87100519B5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0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FBEB-1E95-4883-B321-8E9A1F2CC7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FFF5-5095-49A6-8ACF-663F263E336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hursday 2nd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2" name="Picture 5" descr="coversmall"/>
          <p:cNvPicPr/>
          <p:nvPr/>
        </p:nvPicPr>
        <p:blipFill>
          <a:blip r:embed="rId1"/>
          <a:stretch/>
        </p:blipFill>
        <p:spPr>
          <a:xfrm>
            <a:off x="6248520" y="3657600"/>
            <a:ext cx="13716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9900-E04B-43BC-8C5B-319DE2AF82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1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A093-7B68-4115-B931-590A20B93E7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 November 2010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32BF-6117-4DFA-A5BE-7B4B404349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7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0-11-24T15:49:56Z</dcterms:modified>
  <cp:revision>68</cp:revision>
  <dc:subject/>
  <dc:title>Aims and Objectives</dc:title>
</cp:coreProperties>
</file>