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755-1D6C-444D-8010-0FDF22F7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681-38C4-43C0-B7B2-7468917A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ED3-606A-4519-B6CA-6CE94C83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304-BE2E-46B1-AA9F-C2739284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D19-1098-4259-9545-63012554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83F-1B8E-4E2C-885A-48902A30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DBE-35A8-4744-BB6A-9742A04A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21B-EAB9-406D-8D32-2D1DCA21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89F-ED01-4E11-BE74-A813BB73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A85-89C2-4341-8C7F-9F6D13BD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187-B977-4F3F-860D-0F462654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57E-08F7-48E0-A6EA-7CC7FED6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&lt;footer&gt;</a:t>
            </a: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C0CC-DB59-4E27-B424-78D4AE31D4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39000" y="6400800"/>
            <a:ext cx="1168560" cy="3175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0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0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84B-273A-4291-9F04-0005D16B2A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39B-8A68-47D6-AA51-240CF52959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F9B-F6FA-4DB7-B3DD-1EF5AF0FA8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7C9-6C10-4DF3-83E6-FF0BBDC188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0CD-9718-469D-8BA6-2D39E07216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BEB-DE5A-40FF-8927-944B85B8D6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99D-FFD6-4155-82F0-D669DEF0BD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053-6E8F-40D4-A099-5B92BE7AD0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010-F0AF-4EA5-B964-6DF6536B62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08B-4C3E-4192-90CF-3663A85518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043-3564-49A0-9B67-FDB685CF0E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3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" name="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5DA-E834-47FA-A69C-004F10FA95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AAF-D695-487E-8821-860DF6C6E1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1F4-8518-4D90-85E5-08CA65CA73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614-71A1-493F-9CD5-50B147DE0C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C33-379B-445E-96A8-6D5C050F54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8E8-7CD9-48F6-875B-28480FFEED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EE7-0CFF-46ED-A6F8-4BEF9D9120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20" name="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21" name="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295280"/>
                  <a:gd name="textAreaBottom" fmla="*/ 129564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314" stAng="10800000" swAng="5400000"/>
                    <a:lnTo>
                      <a:pt x="18078" y="4846"/>
                    </a:lnTo>
                    <a:lnTo>
                      <a:pt x="18078" y="0"/>
                    </a:lnTo>
                    <a:lnTo>
                      <a:pt x="21600" y="6079"/>
                    </a:lnTo>
                    <a:lnTo>
                      <a:pt x="18078" y="12158"/>
                    </a:lnTo>
                    <a:lnTo>
                      <a:pt x="18078" y="7312"/>
                    </a:lnTo>
                    <a:lnTo>
                      <a:pt x="12427" y="7312"/>
                    </a:lnTo>
                    <a:arcTo wR="9961" hR="4848" stAng="16200000" swAng="-5400000"/>
                    <a:lnTo>
                      <a:pt x="246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27" name="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28" name="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2DF-213D-45F5-9C6F-2C21FC8246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5FD-3FFA-44F3-AD9E-CD9D1D4F8A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5C7-ED45-4779-8829-89C6BD01DA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B29-0231-4959-8F86-AB6E33D766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587-1C71-489A-A8AD-EACE6E0A8B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AE3-1663-475B-8157-F74FCB7D97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365-17D8-48B4-9F75-51ACE0E9F5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5" name="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723-38D6-42D1-8C8B-7E0CD0386B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DEA-E227-4913-BA33-8AFE324E52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D8D-5D6C-41B7-8416-2FC5FBFE81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DA9-89ED-4FCF-BC50-DDA58FE888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223-E694-4E8A-8476-0B0992D819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0" name=""/>
          <p:cNvSpPr/>
          <p:nvPr/>
        </p:nvSpPr>
        <p:spPr>
          <a:xfrm>
            <a:off x="907920" y="2438280"/>
            <a:ext cx="769140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661-AC95-4EE8-834B-77BBB4FA4CA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92D-9283-4045-B1A8-EEF93759493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7FC-9450-48AF-A1FF-97BB7BB3283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641-55FC-4BC0-A2DB-F8BA8F586D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6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6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8B0-ADE5-43B4-A299-FC8E235BCC7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887-A517-4F5D-84BC-FE74CF9E53B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A54-6B66-417B-8324-5743EFBAACD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F84-4279-48E6-A806-603E82B25A6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498-6886-4AC9-943C-D4424A08D46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41C-7C6F-4FB6-B231-799F2566F0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478-BE4A-4908-83AC-9A22024342C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567-D4D0-4BC7-A25B-6C60D084C59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9/40 to 11/40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434-ACC6-4486-BC01-4F5CCD0A623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2920" y="198108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2FB-90F6-4A18-8908-7036544A6A1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F6C-FCC4-4D61-983B-D2E30D1C32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292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BF8-6F12-42A2-8774-C56096D6875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100-44A2-4317-94D3-6E51DFE6694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826-8E6D-4274-8785-A081E1394F1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2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095-B435-443C-AEFB-836BC2433F6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B0A-41C2-4A41-9533-579FDF879DD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2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7C5-5D09-43F9-ABD7-29B4276FED3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489-F0D9-44E2-8FD1-CD1848733B5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2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is cas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0C3-26E3-43BE-A613-D8F955E14C0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2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(Thursday 4 November)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344-A4CF-4FFB-892A-F5A7C821962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F6B-9ECB-4341-B1B9-4CFF069099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6C9-897E-4086-BF87-6825B38BA5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281-4004-4098-8246-6BF352ABD6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E47-C07B-4160-94CE-6E578A353A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7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7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Administrator</cp:lastModifiedBy>
  <cp:lastPrinted>2004-10-20T13:39:49Z</cp:lastPrinted>
  <dcterms:modified xsi:type="dcterms:W3CDTF">2010-08-27T11:05:23Z</dcterms:modified>
  <cp:revision>76</cp:revision>
  <dc:subject/>
  <dc:title>Aims and Objectives</dc:title>
</cp:coreProperties>
</file>