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511FE-4511-49DA-9336-16BA4FA4A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ED607-5098-455E-8523-714A12C6F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63CDE-AD2A-4625-9D94-447193476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7AF4C-7537-404F-B29D-BCC31C2185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5BD59-889F-4573-ADBA-79A4D2A931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54191-C3C8-4B9E-84D9-244E70AD81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70413-9C3F-460E-8F37-C1216FECF6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32B06-4C9B-454C-8577-481DA14289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0A03E-DBF7-4982-8C50-CC79AB42A2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859E9-4039-4D6C-902C-A43DCD4DC6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EF469-855E-4653-AAE7-A6CB77E968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101BE-9319-4C12-A9DE-B821F92CE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A8B52-69AD-4137-94D7-E3A9EC28E0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57941-ED02-43B9-9E8C-B87B345694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200E1-EFFA-4C5A-8F73-4AD1650880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A26F6-590C-4CE1-878F-DB4D60EE73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C7FB7-B3F2-4F44-A7FE-A1B0CB00F4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2CC45-A8F3-4285-B3A6-B7008FEA8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221DC-56A5-45B0-B339-7F452E62D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98596-ACD6-44D6-BFEB-9F4218629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24C55-36C2-4157-81AE-544870405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25124-E332-4A10-97E3-2DEB89018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7781E-F90D-4121-961D-2EDCF699D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02CF7-AECB-4637-8DE6-85FCDFB0F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9965FFC-B5BD-4F11-9976-8C8D16690776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1085A64-8338-404B-8183-92E018DA5A3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5BB2853-698F-4232-A102-A9A97EA8A48D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AA47DDD-8B9D-48A9-A923-2A3689C7FF1E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5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2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7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36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path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6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3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7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un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solely on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ee also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299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1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ategorical Data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0-10-19T11:29:44Z</dcterms:modified>
  <cp:revision>289</cp:revision>
  <dc:subject/>
  <dc:title>REGRESSION ANALYSIS</dc:title>
</cp:coreProperties>
</file>