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4.wmf" ContentType="image/x-wmf"/>
  <Override PartName="/ppt/media/image27.wmf" ContentType="image/x-wmf"/>
  <Override PartName="/ppt/media/image10.wmf" ContentType="image/x-wmf"/>
  <Override PartName="/ppt/media/image11.png" ContentType="image/png"/>
  <Override PartName="/ppt/media/image31.wmf" ContentType="image/x-wmf"/>
  <Override PartName="/ppt/media/image5.wmf" ContentType="image/x-wmf"/>
  <Override PartName="/ppt/media/image28.wmf" ContentType="image/x-wmf"/>
  <Override PartName="/ppt/media/image30.wmf" ContentType="image/x-wmf"/>
  <Override PartName="/ppt/media/image16.wmf" ContentType="image/x-wmf"/>
  <Override PartName="/ppt/media/image8.png" ContentType="image/png"/>
  <Override PartName="/ppt/media/image9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3.wmf" ContentType="image/x-wmf"/>
  <Override PartName="/ppt/media/image26.wmf" ContentType="image/x-wmf"/>
  <Override PartName="/ppt/media/image2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7A3BA-7412-40AA-BD28-9D4076F118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9739-7BFA-4573-9750-9BBA603188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C69AA-E56C-4FA6-A7CC-36CD8552F9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EC08D-1DF6-4D4E-9EE3-679BE2B6A9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29DBD2-C231-4366-ACB9-DAA625F71E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8CE7BF-2FDD-48D0-BB53-EB4BA8C1274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C7A4F8-CD1D-4061-9D86-F8EB90AE0A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13CE3-0023-4B0E-BBB6-F435433C108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507B5-485D-40ED-A1B1-8C7FE3B8BF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A1A560-359C-4294-B06A-998FEFDEDE3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24B64-C200-45A3-A9B3-A99F769E91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6192-5EDB-4E4A-8DE6-0FF23F49A4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C301AB-DBCF-4889-B048-EBC9675975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03CB6-CF05-4667-9E61-D5E46581BB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5EBAC4-A1EF-416A-AF2D-3452665114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909E1-ECEE-4EED-9F22-D419B902E68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4BD37-74ED-400D-96A0-013EF9490D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57959-57B4-47C9-94C6-661DD12B78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47E04-4A07-4B34-8661-3D64185146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F964E-3F81-4736-A270-7BF880CADA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7D7F0-8D6E-4591-84CC-9356EA7D4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944A9-C729-4321-A92E-4ECAE3F8E5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CB25F-F140-4DA1-8543-BB032536D5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F0BB-75CD-40C5-BAAE-352A6A734B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EEACCFD3-E7FC-4AA6-8D98-E41ACE23F503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9603B803-E8C4-4392-95F4-B7F64BB34D2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6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20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9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2819520" cy="83016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9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3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B2744471-29E3-449C-A5D8-24AC0DCCDE8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A78AEAFD-CE5E-4987-B3AE-541556FA7C23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7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2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7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2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4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9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88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0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94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1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taff.ul.ie/mackenzieg/Assess/R_Integration_Tools/r_integration_tools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4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9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29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0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1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3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8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0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4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1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76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9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4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0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95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9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0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0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5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1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0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WO weeks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9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3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8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0-10-04T15:28:40Z</dcterms:modified>
  <cp:revision>338</cp:revision>
  <dc:subject/>
  <dc:title>Exploratory Data Analysis</dc:title>
</cp:coreProperties>
</file>