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653C-DDEB-41B7-902F-BFBCDF927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1CB8A-911B-4236-BE6E-5D4C8ED2D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1FB9-12BD-4113-93A4-F45ACA26F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A76DD-0AB9-42F7-9716-FC2C86A74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D654B-5AFE-4A90-BC93-BF8ADDB4A4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9039C-02E5-43FB-A701-23DD4496BC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DA8F8-FBEC-4DE9-AF9B-332F971015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AE36B-7B31-4A8F-8F19-D6FBFE2D0C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66011-E7C5-4C53-825C-3B2A38725A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AE64E-A4E9-4783-B7ED-4C72825985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3F995-5F0C-4943-A925-1A1790E92E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70E4-27C8-449E-8FF9-CCB08910A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69B37-C37E-4F0B-A47F-3D70A5D231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22966-6F0E-4D99-91AF-5BACD037C1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D490F-0BFC-426B-8EBE-0804F2CCC2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E7A54-9BFD-486E-8624-6EC85AC448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72BBC-6264-417C-84B5-071E360FA5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BB466-72B6-44EE-8095-AEC83EC21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D1BA-6C5A-4362-BCBB-C3E16CC9A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C0A78-D7A0-4F32-8DC6-E8B3D89A1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6F44-10C1-4F63-B1F2-EA3F88F41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F97C-0833-4BD4-9061-BCE87C4A4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B9B0-EBDF-4B36-A178-4E15B1B14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DF74-10E6-4F9E-BB67-9C5714D77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2338EA0-2A8E-4FB6-B3BB-F049687049F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048E575-84B7-4708-BBCB-5D5ADF80166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CC8E84B-BE43-4D1A-AEC6-0CF9210DCA7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0580AE5-1B2E-4033-9E8B-E6E11562C84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290" idx="0"/>
            <a:endCxn id="289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3" name=""/>
          <p:cNvCxnSpPr>
            <a:stCxn id="289" idx="7"/>
            <a:endCxn id="291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4" name=""/>
          <p:cNvCxnSpPr>
            <a:stCxn id="290" idx="7"/>
            <a:endCxn id="291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438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2438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590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90512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048120"/>
            <a:ext cx="23623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0FFE-CD2E-4A38-9CF1-9C8A2EC5BF44}" type="slidenum">
              <a:rPr b="0" lang="pt-PT" sz="1200" spc="-1" strike="noStrike">
                <a:solidFill>
                  <a:srgbClr val="898989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2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3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6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7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8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9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632523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0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95373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1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d99694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2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e6b9b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3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f2dcd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15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6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8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9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0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1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2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3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4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5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6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7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8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9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0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1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2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3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4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5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6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537" name="Straight Arrow Connector 96"/>
          <p:cNvCxnSpPr>
            <a:stCxn id="536" idx="1"/>
            <a:endCxn id="527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8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21596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9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31859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0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93cd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1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b7dee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2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dbeef4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Next week 11a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Post-hoc tests, multiple comparisons,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contrasts and handling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o 2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www.utexas.edu/its/rc/answers/general/gen28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Administrator</cp:lastModifiedBy>
  <dcterms:modified xsi:type="dcterms:W3CDTF">2009-11-24T11:50:01Z</dcterms:modified>
  <cp:revision>296</cp:revision>
  <dc:subject/>
  <dc:title>No Slide Title</dc:title>
</cp:coreProperties>
</file>