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0DFE-B67F-46D3-AD7D-17C7195B2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7F84-3661-4D07-AF37-077581FE8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EFA8-F3C8-46EE-BAF7-357CDB33C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77C2-C5B2-4690-A4E2-47EEFA287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B2C2-0726-44DB-92F0-F85918978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718CA-B28A-4F86-B7D9-9AAD581B9F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0A980-EC91-4E5A-9B35-E628AEAA5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741AE-E8A2-4010-A009-3724803C67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F0E21-3E12-4DA8-91FC-855EF0595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5659E-AA51-402F-9B25-6EB4C17A1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FBD43-5683-43EE-BA3E-255E61B88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8DB3-34D2-4B81-88DF-BBA2FEA7D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89D8E-E156-4B97-8DE1-F00E3113CD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22473-9A6E-4658-99D3-B4DEB74D28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CFB3C-FADE-4C5B-88CE-AD3B5B790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AC8CB-576A-401F-BB4F-FDF915125D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DE1E-BFDF-42BE-AF7E-A6CB7D5F7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5CA4-1A82-4062-9F72-6FD4AF96E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FA60-372F-413E-AE75-F7CC76448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B664-0245-4B03-A126-F2A3F3C33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AAEA-B97A-41E6-BCD4-484DA1771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A5AA-EC70-4E3E-B1B0-1E84BEADE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2691-041B-495E-99C2-7A53D0B40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D0DB-83AB-41CC-8F7B-D0604FAEA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8633D7C-045A-4980-B153-B10CEED2446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4334CBB-19F2-4DB1-B92C-81567C759EA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B54676F-350D-45BA-A712-D10B0363203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71DCDEC-3E08-485A-8194-1B347402602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6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80060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505320"/>
            <a:ext cx="44956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7780320" cy="4724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160" y="2895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133720"/>
            <a:ext cx="586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owe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19720" y="1523880"/>
          <a:ext cx="4495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495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419720" y="4038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Administrator</cp:lastModifiedBy>
  <dcterms:modified xsi:type="dcterms:W3CDTF">2009-11-06T16:33:57Z</dcterms:modified>
  <cp:revision>353</cp:revision>
  <dc:subject/>
  <dc:title>No Slide Title</dc:title>
</cp:coreProperties>
</file>