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10.wmf" ContentType="image/x-wmf"/>
  <Override PartName="/ppt/media/image11.png" ContentType="image/png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422ED-8231-4BA6-AA53-7B3F2B52E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A146-7049-48AC-87DE-5B6F13283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A2913-0B71-472D-8DD1-17F9051AA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05F4-26D3-4E84-B6E4-1B6B6DC1B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F0C19-0007-40F1-B063-8E8E6536F2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FAB6C-61CB-488B-A49E-E705AA127D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14CC6-CCE5-49AB-A4A7-7708B6F61B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513AA-2F6A-4405-A944-E25FD36AA3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B4B3C-13AA-4B12-944F-80C918029E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1A1FE-D5B6-4D0A-BDC7-101B28F528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ED1BC-9593-425C-BE44-C13C6765E5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747BD-2CA6-41FD-900F-77E09F52D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AE71C-DC8C-43D3-A1D3-06197EFA23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4F1C6-6868-4B9E-B1B3-BCF564E16F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515C3-EE05-48F8-ADE9-1F4B33F665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A7DF8-771D-4D58-A43B-582585C614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173FA-75FC-47ED-91BF-41A09B6ADC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BF05-486F-4FC4-A456-257D7BC0A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CBBE8-7EEE-4541-9796-A24B28780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7DAFA-CEF3-4D02-99F7-B6023638D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C89C4-64DE-4070-8887-6FA8D9552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1705B-5EF8-4467-88AC-D9B3C56D6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5297B-EE3C-4C13-A743-738807A3E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A25D-4C40-4703-96BF-BD656BC7B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7713F08-B896-4E1E-9C2E-7EDA12BCF91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4110C8F-631C-41AA-9789-3590BD753A4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536B248-B4FD-4136-9424-D5F655CB059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BB72EB2-944E-4362-AC1F-6BCA66131E7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2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see CBU website for detai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the response, Y,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Next week (Thursday)…. 11am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Peter Watson 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Administrator</cp:lastModifiedBy>
  <dcterms:modified xsi:type="dcterms:W3CDTF">2009-09-04T11:26:14Z</dcterms:modified>
  <cp:revision>323</cp:revision>
  <dc:subject/>
  <dc:title>Exploratory Data Analysis</dc:title>
</cp:coreProperties>
</file>