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10.wmf" ContentType="image/x-wmf"/>
  <Override PartName="/ppt/media/image11.png" ContentType="image/png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D1E5-191F-4339-A350-4898A972A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75870-70B8-4905-9A01-F344BAA01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224A8-A944-43C3-9BD5-6817DBF78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7C651-9013-4A3B-A969-1F8FB5283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084AA-F0B7-4AA6-ADF0-8BA8E909AF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6937C-B3B0-4E14-B974-B254CEEC79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64C15-34A9-4DCA-B545-D99FF15DDC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5848D-C735-49C0-853F-1B97304D4E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95D97-6265-49A3-B419-40DD4ACC65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B601D-E7F2-44D1-9607-FBD4A166B3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260C2-CCDE-4072-B41A-C47BCB0FEB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55159-3EF4-4056-8C89-740E9B8EF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C94BB-93D0-4582-B482-D055852B32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259F4-E6FF-4115-848A-464DC6CE20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48C00-0E7E-47F1-AFA5-5BE83A144E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95B46-9787-40A1-A5C6-5CA90A0C8F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3C4DF-E6B3-4AD3-A44E-9AC23170F0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9BC84-7210-48E5-ACE6-646D77A1B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42C2D-549E-4D56-82B8-1E5A5DC95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2551A-197E-4799-8866-06F2D0943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B4CE5-67FD-48C3-AF95-422D3DC1A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CA588-A587-4F18-B647-D7B34450B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1FD4E-2D83-42A3-9481-12B26FA67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7C007-5F59-47D5-94BB-F20D2942C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A598541-F38C-4329-9836-ADB27568884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883F1D2-7912-47D9-8672-2A3B99C47F3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25536FF-E1AC-4B72-8EB0-0C7D29F43D6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1FF72C8-6061-4257-889F-8FD9E169726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2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see CBU website for detai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the response, Y,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Next week (Thursday)…. 11am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99cc"/>
                </a:solidFill>
                <a:latin typeface="Verdana"/>
              </a:rPr>
              <a:t>Peter Watson 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Administrator</cp:lastModifiedBy>
  <dcterms:modified xsi:type="dcterms:W3CDTF">2009-09-04T11:26:14Z</dcterms:modified>
  <cp:revision>323</cp:revision>
  <dc:subject/>
  <dc:title>Exploratory Data Analysis</dc:title>
</cp:coreProperties>
</file>